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0304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030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2008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9854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6792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030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9854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6792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2680" y="404640"/>
            <a:ext cx="8775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30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2008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304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304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30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008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54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6792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30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54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6792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02680" y="404640"/>
            <a:ext cx="8775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30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2008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2680" y="365760"/>
            <a:ext cx="8775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2008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0304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7861320" y="6343560"/>
          <a:ext cx="1176480" cy="4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61320" y="6343560"/>
                    <a:ext cx="1176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6881760" y="6399360"/>
            <a:ext cx="863640" cy="382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1000080"/>
            <a:ext cx="9150480" cy="4608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6a839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40" y="928800"/>
            <a:ext cx="9150480" cy="2700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6a839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960480"/>
            <a:ext cx="915048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440" y="903240"/>
            <a:ext cx="9150480" cy="2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440" y="6224760"/>
            <a:ext cx="9150480" cy="45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440" y="6251400"/>
            <a:ext cx="9150480" cy="6372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6a839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542880" y="644832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57240" y="641520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2503-96A0-4291-9004-98CEF73F6F9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5"/>
          <a:stretch/>
        </p:blipFill>
        <p:spPr>
          <a:xfrm>
            <a:off x="5753160" y="6410160"/>
            <a:ext cx="104616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28760" y="2638440"/>
            <a:ext cx="7020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0000"/>
                </a:solidFill>
                <a:latin typeface="Arial"/>
              </a:rPr>
              <a:t>MetaModelica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600000"/>
                </a:solidFill>
                <a:latin typeface="Arial"/>
              </a:rPr>
              <a:t>for Meta-Modeling and Model Transformations</a:t>
            </a:r>
            <a:br>
              <a:rPr sz="4000"/>
            </a:br>
            <a:endParaRPr b="1" lang="en-US" sz="40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69640" y="4691160"/>
            <a:ext cx="541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Peter Fritzson, Adrian Pop, Peter Aronsson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600000"/>
                </a:solidFill>
                <a:latin typeface="Arial"/>
              </a:rPr>
              <a:t>OpenModelica Course at INRIA, 2006 06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1520" y="379440"/>
            <a:ext cx="911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emantics of Local Equations  cont...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4074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equations in match-expressions do not solve for any variables – they may be called "constraint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variables are already bound in these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quation may either be fulfilled (succeed) or not (f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there can locally be more equations than unbound variables, if including the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863640" y="3556080"/>
            <a:ext cx="4559040" cy="1596600"/>
            <a:chOff x="863640" y="3556080"/>
            <a:chExt cx="4559040" cy="1596600"/>
          </a:xfrm>
        </p:grpSpPr>
        <p:sp>
          <p:nvSpPr>
            <p:cNvPr id="200" name=""/>
            <p:cNvSpPr/>
            <p:nvPr/>
          </p:nvSpPr>
          <p:spPr>
            <a:xfrm>
              <a:off x="945720" y="3600000"/>
              <a:ext cx="4476960" cy="1552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63640" y="3556080"/>
              <a:ext cx="4476960" cy="155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69040" y="3560760"/>
              <a:ext cx="44478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local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Real x=5; Integer y = 10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true = x&gt;4;   // Succeed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true = y&lt;10;  // Fails!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03040" y="404640"/>
            <a:ext cx="894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List Data Structures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03040" y="1125360"/>
            <a:ext cx="869976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ype-expr&gt; is a list type con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alLis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;   type is a list of r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lis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variable that is a list of r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l1,el2,el3, ...) is a list data constructor that creates a list of elements of identical ty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 empty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2,3,4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,3,4) list of inte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{el1,el2,el3, ...} overloaded array or list constructor, interpreted as array(...) or list(...) depending on type con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}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notes an empty reference to a list or tree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dds an element in front of the li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turns the resulting l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rat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3040" y="404640"/>
            <a:ext cx="894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Predefined Polymorphic List Operations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02680" y="1125000"/>
            <a:ext cx="5972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711360" y="1171440"/>
            <a:ext cx="3834720" cy="5022720"/>
            <a:chOff x="711360" y="1171440"/>
            <a:chExt cx="3834720" cy="5022720"/>
          </a:xfrm>
        </p:grpSpPr>
        <p:sp>
          <p:nvSpPr>
            <p:cNvPr id="208" name=""/>
            <p:cNvSpPr/>
            <p:nvPr/>
          </p:nvSpPr>
          <p:spPr>
            <a:xfrm>
              <a:off x="773640" y="1323720"/>
              <a:ext cx="3772440" cy="4870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1360" y="1205640"/>
              <a:ext cx="3791880" cy="49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6560" y="1171440"/>
              <a:ext cx="3731400" cy="39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function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pp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put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list&lt;Eltype&gt; lst1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put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list&lt;Eltype&gt; lst2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output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list&lt;Eltype&gt; lst3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replaceable type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Eltype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ppend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function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ever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put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list&lt;Eltype&gt; lst1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output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list&lt;Eltype&gt; lst3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replaceable type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Eltype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everse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function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eng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put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list&lt;Eltype&gt; lst1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output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Integer len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replaceable type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Eltype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ength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826160" y="1158840"/>
            <a:ext cx="3834720" cy="5049360"/>
            <a:chOff x="4826160" y="1158840"/>
            <a:chExt cx="3834720" cy="5049360"/>
          </a:xfrm>
        </p:grpSpPr>
        <p:sp>
          <p:nvSpPr>
            <p:cNvPr id="212" name=""/>
            <p:cNvSpPr/>
            <p:nvPr/>
          </p:nvSpPr>
          <p:spPr>
            <a:xfrm>
              <a:off x="4888440" y="1311840"/>
              <a:ext cx="3772440" cy="4896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26160" y="1193400"/>
              <a:ext cx="3791880" cy="494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851360" y="1158840"/>
              <a:ext cx="3731400" cy="49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function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emb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put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Eltype elem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put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list&lt;Eltype&gt; lst2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output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Boolean resul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replaceable type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Eltype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ember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function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replaceable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type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Eltype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put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list&lt;Eltype&gt; lst1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put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Integer elindex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output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Eltype elem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replaceable type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Eltype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th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function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ele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put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ListType lst1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put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Integer  elindex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output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ListType lst3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replaceable type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Eltype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type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ListType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=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list&lt;Eltype&gt;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3040" y="201600"/>
            <a:ext cx="894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Function Formal Parameters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02680" y="1125000"/>
            <a:ext cx="875052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can be passed as actual arguments at function c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checking done on the function formal parameter type signature, not including the actual names of inputs and outputs to the passed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41200" y="2133720"/>
            <a:ext cx="8902440" cy="2016360"/>
            <a:chOff x="241200" y="2133720"/>
            <a:chExt cx="8902440" cy="2016360"/>
          </a:xfrm>
        </p:grpSpPr>
        <p:sp>
          <p:nvSpPr>
            <p:cNvPr id="218" name=""/>
            <p:cNvSpPr/>
            <p:nvPr/>
          </p:nvSpPr>
          <p:spPr>
            <a:xfrm>
              <a:off x="401760" y="2185560"/>
              <a:ext cx="8741880" cy="1824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1200" y="2133720"/>
              <a:ext cx="8741880" cy="18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2000" y="2138040"/>
              <a:ext cx="868248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intListMap   "Map over a list of integers"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ype func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Integer&gt; inls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Integer&gt; outls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rtial functio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Functyp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Integer x1;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Integer x2;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ype;                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intListMap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16000" y="4114800"/>
            <a:ext cx="8927640" cy="2229480"/>
            <a:chOff x="216000" y="4114800"/>
            <a:chExt cx="8927640" cy="2229480"/>
          </a:xfrm>
        </p:grpSpPr>
        <p:sp>
          <p:nvSpPr>
            <p:cNvPr id="222" name=""/>
            <p:cNvSpPr/>
            <p:nvPr/>
          </p:nvSpPr>
          <p:spPr>
            <a:xfrm>
              <a:off x="376920" y="4174200"/>
              <a:ext cx="8766720" cy="2085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16000" y="4114800"/>
              <a:ext cx="8766720" cy="208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6800" y="4119120"/>
              <a:ext cx="87069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unctio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listMap    "Map over a list of elements of Type_a, a type parameter"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ype func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Type_a&gt; inls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Type_a&gt; outls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eplaceabl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typ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Type_a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artial functio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Functype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pu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Type_a x1;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outpu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Type_a x2;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Functype;                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listMap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03040" y="201600"/>
            <a:ext cx="894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Calling Functions with Function Formal Parameters and/or Parameterized Types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02680" y="1125000"/>
            <a:ext cx="875052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with passed function arguments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_list_map(add1,intlst1)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d using type 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r uses type inference to derive type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able type parame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_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Integ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list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&lt;Integer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Map(add1, intlst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41200" y="2933640"/>
            <a:ext cx="8635320" cy="1460520"/>
            <a:chOff x="241200" y="2933640"/>
            <a:chExt cx="8635320" cy="1460520"/>
          </a:xfrm>
        </p:grpSpPr>
        <p:sp>
          <p:nvSpPr>
            <p:cNvPr id="228" name=""/>
            <p:cNvSpPr/>
            <p:nvPr/>
          </p:nvSpPr>
          <p:spPr>
            <a:xfrm>
              <a:off x="396720" y="2973960"/>
              <a:ext cx="8479800" cy="1420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1200" y="2933640"/>
              <a:ext cx="8479800" cy="14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1640" y="2937960"/>
              <a:ext cx="8422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call function intListMap   "Map over a list of integers"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Integer&gt; intlst1 := {1,3,5,9}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Integer&gt; intlst2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tlst2 := intListMap(add1, intlst1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54160" y="4559400"/>
            <a:ext cx="8673480" cy="1638360"/>
            <a:chOff x="254160" y="4559400"/>
            <a:chExt cx="8673480" cy="1638360"/>
          </a:xfrm>
        </p:grpSpPr>
        <p:sp>
          <p:nvSpPr>
            <p:cNvPr id="232" name=""/>
            <p:cNvSpPr/>
            <p:nvPr/>
          </p:nvSpPr>
          <p:spPr>
            <a:xfrm>
              <a:off x="410400" y="4604760"/>
              <a:ext cx="8517240" cy="1593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4160" y="4559400"/>
              <a:ext cx="8517240" cy="159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4600" y="4563720"/>
              <a:ext cx="84592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call function listMap   "Map over a list of Type_a – a type parameter"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Integer&gt; intlst1 := {1,3,5,9}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Integer&gt; intlst2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tlst2 := listMap(add1, intlst1);  // The type parameter 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03040" y="404640"/>
            <a:ext cx="894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uple Data Structures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02680" y="1125000"/>
            <a:ext cx="8775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ples are anonymous records without field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...&gt; – tuple type constructor (keyword not nee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VarBND 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dent, Integer&gt;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eal,Integer&gt; realintpai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3.14, "this is a string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ca functions with multiple results return tu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,b,c) := foo(x, 2, 3, 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03040" y="404640"/>
            <a:ext cx="894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Option Type Constructor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03040" y="1125360"/>
            <a:ext cx="8699760" cy="34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type constructor, parameterized by some type (e.g.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 creates a kind of uniontype with the predefined constructor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SOME(..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consta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ith no arguments automatically belongs to any option type. A constructor call such a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OME(x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he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x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has the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has the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&lt;Type_a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ghly equivalent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888840" y="4660920"/>
            <a:ext cx="7086240" cy="1371600"/>
            <a:chOff x="888840" y="4660920"/>
            <a:chExt cx="7086240" cy="1371600"/>
          </a:xfrm>
        </p:grpSpPr>
        <p:sp>
          <p:nvSpPr>
            <p:cNvPr id="240" name=""/>
            <p:cNvSpPr/>
            <p:nvPr/>
          </p:nvSpPr>
          <p:spPr>
            <a:xfrm>
              <a:off x="1016640" y="4698720"/>
              <a:ext cx="6958440" cy="1333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88840" y="4660920"/>
              <a:ext cx="6958440" cy="133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97480" y="4665600"/>
              <a:ext cx="69112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ion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Op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NONE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NONE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SOME  Type_a x1;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SOME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placeabl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Type_a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Option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914400" y="2082960"/>
            <a:ext cx="6730560" cy="772920"/>
            <a:chOff x="914400" y="2082960"/>
            <a:chExt cx="6730560" cy="772920"/>
          </a:xfrm>
        </p:grpSpPr>
        <p:sp>
          <p:nvSpPr>
            <p:cNvPr id="244" name=""/>
            <p:cNvSpPr/>
            <p:nvPr/>
          </p:nvSpPr>
          <p:spPr>
            <a:xfrm>
              <a:off x="1035720" y="2104200"/>
              <a:ext cx="6609240" cy="751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14400" y="2082960"/>
              <a:ext cx="6609240" cy="75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20880" y="2085840"/>
              <a:ext cx="6567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replaceable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type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Type_a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type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Option_a =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Option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&lt;Type_a&gt;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03040" y="239760"/>
            <a:ext cx="894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esting for Failure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03040" y="1087200"/>
            <a:ext cx="894096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cal equation may fail or succ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uiltin equation operat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il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rg) succeeds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ils,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lo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876240" y="4394160"/>
            <a:ext cx="6705360" cy="1164240"/>
            <a:chOff x="876240" y="4394160"/>
            <a:chExt cx="6705360" cy="1164240"/>
          </a:xfrm>
        </p:grpSpPr>
        <p:sp>
          <p:nvSpPr>
            <p:cNvPr id="250" name=""/>
            <p:cNvSpPr/>
            <p:nvPr/>
          </p:nvSpPr>
          <p:spPr>
            <a:xfrm>
              <a:off x="1025640" y="4426920"/>
              <a:ext cx="6293160" cy="946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76240" y="4394160"/>
              <a:ext cx="6332400" cy="95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25200" y="4398840"/>
              <a:ext cx="6656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(id2,_) :: rest, id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failur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(true =  id ==&amp; id2);  value = lookup(rest,id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value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44600" y="3513240"/>
            <a:ext cx="396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, testing for failure in Model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Generating a fail "Exception"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ll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i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fail the current case-branch in the match-expression and continue with the next bran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no more case-branches, the enclosing function will f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ression or equation may fail for other reasons, e.g. division by zero, no match, unsolvable equa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03040" y="404640"/>
            <a:ext cx="894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as-expressions in Pattern Expressions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bound local variable (declar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an be set equal to an expression in a pattern expression through an as-expresso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subexp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used to give another name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variable may only be associated with o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he expression equatio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subexp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bsyn.IDENT("der"), expl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Meta-Modelica Compiler (MMC) and Language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extend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b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Mode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development of O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etaModelica Language proper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 syntax and base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tern matching (named/posi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equations (local within expres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rsive tree 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s and 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rbage collection of heap-alloca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s (with local update as in standard Model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morphic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formal parameters to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builtin exception (failure) handling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3040" y="404640"/>
            <a:ext cx="894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ummary of New MetaModelica Reserved Words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7840" y="1006560"/>
            <a:ext cx="8966160" cy="57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Underscore is a reserved word used as a pattern placeholder, name placeholder in anonymous functions, types, classe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(matc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match-expression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atch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matchcontinue-expres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match/matchcontinue-expres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for local declarations in match expression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uniontyp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union type declarations, e.g. tree data typ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03040" y="404640"/>
            <a:ext cx="894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ummary of New Reserved Words Cont'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a reserved word, but this is not necessary since it is only used in list(...)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redefined parameterized union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03040" y="404640"/>
            <a:ext cx="894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ummary of New Builtin Functions and Operators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9409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...&gt; – list type constructor, in typ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...&gt; – tuple type co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...) – list data constructor, in expression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– atta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front of li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) –  Raise fail exception, having null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..., ..., ...)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Li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-modeling increasingly important, also for the Modelica language and its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-modeling/meta-programming extensions allow writing a Modelica compiler in Mode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are recursive union types (trees), lists, and match-expressions – standard constructs found in functional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Modelica compiler implemented using MetaModelica extensions since March 200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A Simple match-Expression Example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2680" y="1125000"/>
            <a:ext cx="751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, returning a number, given a st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282680" y="2120760"/>
            <a:ext cx="4051440" cy="2971080"/>
            <a:chOff x="1282680" y="2120760"/>
            <a:chExt cx="4051440" cy="2971080"/>
          </a:xfrm>
        </p:grpSpPr>
        <p:sp>
          <p:nvSpPr>
            <p:cNvPr id="94" name=""/>
            <p:cNvSpPr/>
            <p:nvPr/>
          </p:nvSpPr>
          <p:spPr>
            <a:xfrm>
              <a:off x="1355760" y="2280600"/>
              <a:ext cx="3978360" cy="2811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82680" y="2120760"/>
              <a:ext cx="3978360" cy="281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87720" y="2132280"/>
              <a:ext cx="395208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String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Real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;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:=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case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"one"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then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1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"two"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then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2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"three"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then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3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          0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6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Tree Types – uniontype Declaration Example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02680" y="1125360"/>
            <a:ext cx="34419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on types specifie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e or more recor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on types can b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urs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an reference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 type is a union type of three record typ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constructors INT, NEG and 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usage is abstract syntax t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000680" y="1816200"/>
            <a:ext cx="5067000" cy="1460520"/>
            <a:chOff x="4000680" y="1816200"/>
            <a:chExt cx="5067000" cy="1460520"/>
          </a:xfrm>
        </p:grpSpPr>
        <p:sp>
          <p:nvSpPr>
            <p:cNvPr id="100" name=""/>
            <p:cNvSpPr/>
            <p:nvPr/>
          </p:nvSpPr>
          <p:spPr>
            <a:xfrm>
              <a:off x="4054320" y="1882800"/>
              <a:ext cx="5013360" cy="1393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00680" y="1816200"/>
              <a:ext cx="5013000" cy="139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06800" y="1822320"/>
              <a:ext cx="49798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ion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Ex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INT  Integer x1;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IN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NEG  Exp x1; 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NEG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ADD  Exp x1; Exp x2;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ADD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Ex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886200" y="1303200"/>
            <a:ext cx="43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Modelica  tree type decla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804360" y="3884760"/>
            <a:ext cx="1397880" cy="1285560"/>
            <a:chOff x="6804360" y="3884760"/>
            <a:chExt cx="1397880" cy="1285560"/>
          </a:xfrm>
        </p:grpSpPr>
        <p:sp>
          <p:nvSpPr>
            <p:cNvPr id="105" name=""/>
            <p:cNvSpPr/>
            <p:nvPr/>
          </p:nvSpPr>
          <p:spPr>
            <a:xfrm>
              <a:off x="7248240" y="3897000"/>
              <a:ext cx="41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04360" y="4543200"/>
              <a:ext cx="339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58080" y="4777920"/>
              <a:ext cx="14400" cy="1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58080" y="4955760"/>
              <a:ext cx="14400" cy="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58080" y="4777920"/>
              <a:ext cx="14400" cy="177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30360" y="4941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863120" y="4543200"/>
              <a:ext cx="339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40960" y="4777920"/>
              <a:ext cx="14040" cy="1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40960" y="4955760"/>
              <a:ext cx="14040" cy="14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40960" y="4777920"/>
              <a:ext cx="14040" cy="1774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958880" y="49417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07440" y="3884760"/>
              <a:ext cx="12600" cy="12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07440" y="4159080"/>
              <a:ext cx="12600" cy="136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58080" y="455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58080" y="4159080"/>
              <a:ext cx="561960" cy="412200"/>
            </a:xfrm>
            <a:custGeom>
              <a:avLst/>
              <a:gdLst/>
              <a:ahLst/>
              <a:rect l="l" t="t" r="r" b="b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07440" y="4159080"/>
              <a:ext cx="12600" cy="136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55000" y="455724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07440" y="4159080"/>
              <a:ext cx="561960" cy="412200"/>
            </a:xfrm>
            <a:custGeom>
              <a:avLst/>
              <a:gdLst/>
              <a:ahLst/>
              <a:rect l="l" t="t" r="r" b="b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936960" y="411012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(INT(6),INT(44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2680" y="21420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Another uniontype Declaration of Exp Expressions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89320" y="1752480"/>
            <a:ext cx="5752800" cy="2694960"/>
            <a:chOff x="3289320" y="1752480"/>
            <a:chExt cx="5752800" cy="2694960"/>
          </a:xfrm>
        </p:grpSpPr>
        <p:sp>
          <p:nvSpPr>
            <p:cNvPr id="126" name=""/>
            <p:cNvSpPr/>
            <p:nvPr/>
          </p:nvSpPr>
          <p:spPr>
            <a:xfrm>
              <a:off x="3350160" y="1875240"/>
              <a:ext cx="5691960" cy="2572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89320" y="1752480"/>
              <a:ext cx="5691600" cy="257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96160" y="1763640"/>
              <a:ext cx="565416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iontyp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Ex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INTconst Integer x1;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INTcons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PLUSop  Exp x1; Exp x2;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PLUSo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SUBop   Exp x1; Exp x2;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SUBo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MULop   Exp x1; Exp x2;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MULo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DIVop   Exp x1; Exp x2;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DIVo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cor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NEGop   Exp x1; 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NEGo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Ex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3213000" y="1316160"/>
            <a:ext cx="57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 syntax tree data type declaration of Ex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9360" y="470700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+5*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44000" y="2158920"/>
            <a:ext cx="2970720" cy="2097000"/>
            <a:chOff x="144000" y="2158920"/>
            <a:chExt cx="2970720" cy="2097000"/>
          </a:xfrm>
        </p:grpSpPr>
        <p:sp>
          <p:nvSpPr>
            <p:cNvPr id="132" name=""/>
            <p:cNvSpPr/>
            <p:nvPr/>
          </p:nvSpPr>
          <p:spPr>
            <a:xfrm>
              <a:off x="1103040" y="2158920"/>
              <a:ext cx="689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PLUSo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12320" y="2982600"/>
              <a:ext cx="64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MULo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000" y="298260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4080" y="3217680"/>
              <a:ext cx="14400" cy="1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4080" y="3395520"/>
              <a:ext cx="14400" cy="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4080" y="3217680"/>
              <a:ext cx="14400" cy="177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560" y="33829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53520" y="362880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23960" y="3863880"/>
              <a:ext cx="14040" cy="1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23960" y="4041720"/>
              <a:ext cx="14040" cy="14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23960" y="3863880"/>
              <a:ext cx="14040" cy="177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96240" y="40273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50440" y="3628800"/>
              <a:ext cx="76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6480" y="3863880"/>
              <a:ext cx="14400" cy="14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06480" y="4041720"/>
              <a:ext cx="14400" cy="14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06480" y="3863880"/>
              <a:ext cx="14400" cy="1778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24400" y="40273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63680" y="2420640"/>
              <a:ext cx="1404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1080" y="297000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1080" y="2420640"/>
              <a:ext cx="836640" cy="561960"/>
            </a:xfrm>
            <a:custGeom>
              <a:avLst/>
              <a:gdLst/>
              <a:ahLst/>
              <a:rect l="l" t="t" r="r" b="b"/>
              <a:pathLst>
                <a:path w="527" h="354">
                  <a:moveTo>
                    <a:pt x="527" y="8"/>
                  </a:moveTo>
                  <a:lnTo>
                    <a:pt x="518" y="0"/>
                  </a:lnTo>
                  <a:lnTo>
                    <a:pt x="0" y="346"/>
                  </a:lnTo>
                  <a:lnTo>
                    <a:pt x="9" y="354"/>
                  </a:lnTo>
                  <a:lnTo>
                    <a:pt x="527" y="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63680" y="2420640"/>
              <a:ext cx="1404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73320" y="29700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63680" y="2420640"/>
              <a:ext cx="822240" cy="561960"/>
            </a:xfrm>
            <a:custGeom>
              <a:avLst/>
              <a:gdLst/>
              <a:ahLst/>
              <a:rect l="l" t="t" r="r" b="b"/>
              <a:pathLst>
                <a:path w="518" h="354">
                  <a:moveTo>
                    <a:pt x="9" y="0"/>
                  </a:moveTo>
                  <a:lnTo>
                    <a:pt x="0" y="8"/>
                  </a:lnTo>
                  <a:lnTo>
                    <a:pt x="510" y="354"/>
                  </a:lnTo>
                  <a:lnTo>
                    <a:pt x="518" y="346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73320" y="32446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23960" y="36432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23960" y="3244680"/>
              <a:ext cx="561960" cy="412560"/>
            </a:xfrm>
            <a:custGeom>
              <a:avLst/>
              <a:gdLst/>
              <a:ahLst/>
              <a:rect l="l" t="t" r="r" b="b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73320" y="32446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20880" y="364320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73320" y="3244680"/>
              <a:ext cx="561960" cy="412560"/>
            </a:xfrm>
            <a:custGeom>
              <a:avLst/>
              <a:gdLst/>
              <a:ahLst/>
              <a:rect l="l" t="t" r="r" b="b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66760" y="5430960"/>
            <a:ext cx="56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USop(INTconst(12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op(INTconst(5),INTconst(13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3040" y="226800"/>
            <a:ext cx="894096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imple Expression Interpreter – with equation keyword, match, case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22440" y="1536840"/>
            <a:ext cx="5905080" cy="5013000"/>
            <a:chOff x="622440" y="1536840"/>
            <a:chExt cx="5905080" cy="5013000"/>
          </a:xfrm>
        </p:grpSpPr>
        <p:sp>
          <p:nvSpPr>
            <p:cNvPr id="164" name=""/>
            <p:cNvSpPr/>
            <p:nvPr/>
          </p:nvSpPr>
          <p:spPr>
            <a:xfrm>
              <a:off x="753840" y="1687320"/>
              <a:ext cx="5542200" cy="4333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2440" y="1536840"/>
              <a:ext cx="5576760" cy="437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4200" y="1554120"/>
              <a:ext cx="5863320" cy="49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functio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eval "Evaluates integer expression trees"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inpu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Exp     exp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outpu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nteger intval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intval :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ex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local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nteger v1,v2; Exp e1,e2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NTconst(v1)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v1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PLUSop(e1,e2)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v1+v2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SUBop(e1,e2)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v1-v2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MULop(e1,e2)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v1*v2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DIVop(e1,e2)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v1/v2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NEGop(e1)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                                                                                                                                                                        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val(e1) = v1;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-v1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eval;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975360" y="2646360"/>
            <a:ext cx="240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Local variables with scope inside case 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85960" y="2825640"/>
            <a:ext cx="2724120" cy="23652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54360" y="2914560"/>
            <a:ext cx="2248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89760" y="3801960"/>
            <a:ext cx="202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Local equations with local unknowns v1,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55760" y="3935520"/>
            <a:ext cx="3233880" cy="21564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45080" y="3929040"/>
            <a:ext cx="20826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00920" y="4361040"/>
            <a:ext cx="127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A returned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38640" y="4329000"/>
            <a:ext cx="630360" cy="24156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9240" y="4451400"/>
            <a:ext cx="110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77160" y="3179880"/>
            <a:ext cx="216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00000"/>
                </a:solidFill>
                <a:latin typeface="Arial"/>
              </a:rPr>
              <a:t>Pattern binding local pattern variables e1,  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11440" y="3287880"/>
            <a:ext cx="1353960" cy="22860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81160" y="3321000"/>
            <a:ext cx="3924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3040" y="404640"/>
            <a:ext cx="894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Example: Simple Symbolic Differentiator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02680" y="1125000"/>
            <a:ext cx="5972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7840" y="1095480"/>
            <a:ext cx="4343040" cy="5023800"/>
            <a:chOff x="177840" y="1095480"/>
            <a:chExt cx="4343040" cy="5023800"/>
          </a:xfrm>
        </p:grpSpPr>
        <p:sp>
          <p:nvSpPr>
            <p:cNvPr id="182" name=""/>
            <p:cNvSpPr/>
            <p:nvPr/>
          </p:nvSpPr>
          <p:spPr>
            <a:xfrm>
              <a:off x="248400" y="1247760"/>
              <a:ext cx="4272480" cy="48715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7840" y="1129680"/>
              <a:ext cx="4294440" cy="492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8080" y="1095480"/>
              <a:ext cx="4225320" cy="48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300" spc="-1" strike="noStrike">
                  <a:solidFill>
                    <a:srgbClr val="000000"/>
                  </a:solidFill>
                  <a:latin typeface="Courier New"/>
                </a:rPr>
                <a:t>function</a:t>
              </a: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 difft "Symbolic differenti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3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of expression</a:t>
              </a:r>
              <a:r>
                <a:rPr b="1" sz="13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with respect to time"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300" spc="-1" strike="noStrike">
                  <a:solidFill>
                    <a:srgbClr val="000000"/>
                  </a:solidFill>
                  <a:latin typeface="Courier New"/>
                </a:rPr>
                <a:t>input </a:t>
              </a: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 Exp expr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300" spc="-1" strike="noStrike">
                  <a:solidFill>
                    <a:srgbClr val="000000"/>
                  </a:solidFill>
                  <a:latin typeface="Courier New"/>
                </a:rPr>
                <a:t>input</a:t>
              </a: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  list&lt;IDENT&gt; timevars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300" spc="-1" strike="noStrike">
                  <a:solidFill>
                    <a:srgbClr val="000000"/>
                  </a:solidFill>
                  <a:latin typeface="Courier New"/>
                </a:rPr>
                <a:t>output</a:t>
              </a: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 Exp diffexpr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3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diffexpr :=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300" spc="-1" strike="noStrike">
                  <a:solidFill>
                    <a:srgbClr val="000000"/>
                  </a:solidFill>
                  <a:latin typeface="Courier New"/>
                </a:rPr>
                <a:t>match</a:t>
              </a: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 (expr, timevars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3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sz="1300" spc="-1" strike="noStrike">
                  <a:solidFill>
                    <a:srgbClr val="000000"/>
                  </a:solidFill>
                  <a:latin typeface="Courier New"/>
                </a:rPr>
                <a:t>local</a:t>
              </a: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 Exp e1prim,e2prim,tvars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Exp e1,e2,id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// der of consta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sz="13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(RCONST(_), _) </a:t>
              </a:r>
              <a:r>
                <a:rPr b="1" sz="1300" spc="-1" strike="noStrike">
                  <a:solidFill>
                    <a:srgbClr val="000000"/>
                  </a:solidFill>
                  <a:latin typeface="Courier New"/>
                </a:rPr>
                <a:t>then</a:t>
              </a: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 RCONST(0.0);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// der of time variab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sz="13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(IDENT("time"), _) </a:t>
              </a:r>
              <a:r>
                <a:rPr b="1" sz="1300" spc="-1" strike="noStrike">
                  <a:solidFill>
                    <a:srgbClr val="000000"/>
                  </a:solidFill>
                  <a:latin typeface="Courier New"/>
                </a:rPr>
                <a:t>the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3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RCONST(1.0);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// der of any variable 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sz="13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 difft(id </a:t>
              </a:r>
              <a:r>
                <a:rPr b="1" sz="1300" spc="-1" strike="noStrike">
                  <a:solidFill>
                    <a:srgbClr val="000000"/>
                  </a:solidFill>
                  <a:latin typeface="Courier New"/>
                </a:rPr>
                <a:t>as</a:t>
              </a: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 IDENT(_),tvars) </a:t>
              </a:r>
              <a:r>
                <a:rPr b="1" sz="1300" spc="-1" strike="noStrike">
                  <a:solidFill>
                    <a:srgbClr val="000000"/>
                  </a:solidFill>
                  <a:latin typeface="Courier New"/>
                </a:rPr>
                <a:t>the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sz="1300" spc="-1" strike="noStrike">
                  <a:solidFill>
                    <a:srgbClr val="000000"/>
                  </a:solidFill>
                  <a:latin typeface="Courier New"/>
                </a:rPr>
                <a:t>if</a:t>
              </a: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 list_member(id,tvars) </a:t>
              </a:r>
              <a:r>
                <a:rPr b="1" sz="1300" spc="-1" strike="noStrike">
                  <a:solidFill>
                    <a:srgbClr val="000000"/>
                  </a:solidFill>
                  <a:latin typeface="Courier New"/>
                </a:rPr>
                <a:t>the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CALL(IDENT("der"),list(id)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sz="13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RCONST(0.0)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3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635360" y="1095480"/>
            <a:ext cx="4356000" cy="5049360"/>
            <a:chOff x="4635360" y="1095480"/>
            <a:chExt cx="4356000" cy="5049360"/>
          </a:xfrm>
        </p:grpSpPr>
        <p:sp>
          <p:nvSpPr>
            <p:cNvPr id="186" name=""/>
            <p:cNvSpPr/>
            <p:nvPr/>
          </p:nvSpPr>
          <p:spPr>
            <a:xfrm>
              <a:off x="4706280" y="1248480"/>
              <a:ext cx="4285080" cy="4896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35360" y="1130040"/>
              <a:ext cx="4307400" cy="4946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63800" y="1095480"/>
              <a:ext cx="4238640" cy="41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// (e1+e2)’ =&gt; e1'+e2'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(ADD(e1,e2),tvars)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e1prim = difft(e1,tvars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e2prim = difft(e2,tvars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then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ADD(e1prim,e2prim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// (e1-e2)’ =&gt; e1'-e2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(SUB(e1,e2),tvars)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e1prim = difft(e1,tvars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e2prim = difft(e2,tvars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then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SUB(e1prim,e2prim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// (e1*e2)’ =&gt; e1'*e2 + e1*e2'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(MUL(e1,e2),tvars)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e1prim = difft(e1,tvars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e2prim = difft(e2,tvars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then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PLUS(MUL(e1prim,e2)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           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MUL(e1,e2prim)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02680" y="404640"/>
            <a:ext cx="877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General Syntactic Structure of match-expressions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02680" y="1125000"/>
            <a:ext cx="13590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47920" y="1206360"/>
            <a:ext cx="6806880" cy="4330440"/>
            <a:chOff x="1447920" y="1206360"/>
            <a:chExt cx="6806880" cy="4330440"/>
          </a:xfrm>
        </p:grpSpPr>
        <p:sp>
          <p:nvSpPr>
            <p:cNvPr id="192" name=""/>
            <p:cNvSpPr/>
            <p:nvPr/>
          </p:nvSpPr>
          <p:spPr>
            <a:xfrm>
              <a:off x="1570680" y="1326240"/>
              <a:ext cx="6684120" cy="42105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47920" y="1206360"/>
              <a:ext cx="6684120" cy="421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56200" y="1222920"/>
              <a:ext cx="664056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0" sz="1800" spc="-1" strike="noStrike">
                  <a:solidFill>
                    <a:srgbClr val="000000"/>
                  </a:solidFill>
                  <a:latin typeface="Courier New"/>
                </a:rPr>
                <a:t> &lt;expr&gt;  &lt;opt-local-decl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sz="1800" spc="-1" strike="noStrike">
                  <a:solidFill>
                    <a:srgbClr val="000000"/>
                  </a:solidFill>
                  <a:latin typeface="Courier New"/>
                </a:rPr>
                <a:t> &lt;pat-expr&gt; &lt;opt-local-decl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then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sz="1800" spc="-1" strike="noStrike">
                  <a:solidFill>
                    <a:srgbClr val="000000"/>
                  </a:solidFill>
                  <a:latin typeface="Courier New"/>
                </a:rPr>
                <a:t> &lt;pat-expr&gt; &lt;opt-local-decl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then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sz="1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8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r>
                <a:rPr b="0" sz="1800" spc="-1" strike="noStrike">
                  <a:solidFill>
                    <a:srgbClr val="000000"/>
                  </a:solidFill>
                  <a:latin typeface="Courier New"/>
                </a:rPr>
                <a:t> &lt;opt-local-decl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then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r>
                <a:rPr b="0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sv-SE" sz="1800" spc="-1" strike="noStrike">
                  <a:solidFill>
                    <a:srgbClr val="000000"/>
                  </a:solidFill>
                  <a:latin typeface="Courier New"/>
                </a:rPr>
                <a:t>matchcontinue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1520" y="239760"/>
            <a:ext cx="911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000"/>
                </a:solidFill>
                <a:latin typeface="Arial"/>
              </a:rPr>
              <a:t>Semantics of Local Equations in match-Expressions</a:t>
            </a:r>
            <a:endParaRPr b="1" lang="en-US" sz="28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02680" y="1125360"/>
            <a:ext cx="845820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lgebraic equations are allowed, no differential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locally declared variables (local unknowns) declared by local declarations within the case expression are solv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are solved in the order they are declared. (This restriction may be removed in the futur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equation or an expression i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ranch of a matchcontinue-expression fails, all local variables become unbound, and matching continues with the next bran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3:07:46Z</dcterms:created>
  <dc:creator>Peter Fritzson</dc:creator>
  <dc:description/>
  <dc:language>en-US</dc:language>
  <cp:lastModifiedBy> </cp:lastModifiedBy>
  <dcterms:modified xsi:type="dcterms:W3CDTF">2006-06-04T12:46:14Z</dcterms:modified>
  <cp:revision>556</cp:revision>
  <dc:subject/>
  <dc:title>Slide 1</dc:title>
</cp:coreProperties>
</file>