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54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6792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30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54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6792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404640"/>
            <a:ext cx="8775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54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792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54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792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2680" y="404640"/>
            <a:ext cx="8775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FFD-6320-46C1-9032-A5B58EA0AD0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5753160" y="6410160"/>
            <a:ext cx="1046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0160" y="1418760"/>
            <a:ext cx="69436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OpenModelica </a:t>
            </a: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OMShell and OMNotebook</a:t>
            </a:r>
            <a:br>
              <a:rPr sz="3600"/>
            </a:b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Introduction and Exercises</a:t>
            </a:r>
            <a:br>
              <a:rPr sz="3600"/>
            </a:br>
            <a:endParaRPr b="1" lang="en-US" sz="36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5520" y="3586320"/>
            <a:ext cx="541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Peter Aronss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 at INRIA, 2006 06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ells with both</a:t>
            </a:r>
            <a:br>
              <a:rPr sz="2800"/>
            </a:b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xt and Graphic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67120" y="320760"/>
            <a:ext cx="5000760" cy="586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1879560"/>
            <a:ext cx="180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must be installed for plotting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2680" y="23976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ercises and Answers in OMNotebook Dr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30600" y="1596960"/>
            <a:ext cx="57340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2680" y="226800"/>
            <a:ext cx="8775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OMNotebook Commands</a:t>
            </a:r>
            <a:br>
              <a:rPr sz="2800"/>
            </a:br>
            <a:r>
              <a:rPr b="1" lang="en-US" sz="2400" spc="-1" strike="noStrike">
                <a:solidFill>
                  <a:srgbClr val="600000"/>
                </a:solidFill>
                <a:latin typeface="Arial"/>
              </a:rPr>
              <a:t>(see also OpenModelica Users Guide)</a:t>
            </a:r>
            <a:endParaRPr b="1" lang="en-US" sz="24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-return (evaluated a ce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Menu (open, close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ursor (vertical), Cell cursor (horison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types: text cells &amp; executable cod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, paste, group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, pase, group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Completion (shift-t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Simplest Model – Hello World!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8880" y="1116000"/>
            <a:ext cx="8127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lica “Hello Worl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13320" y="1658880"/>
            <a:ext cx="4848120" cy="1420920"/>
            <a:chOff x="3613320" y="1658880"/>
            <a:chExt cx="4848120" cy="1420920"/>
          </a:xfrm>
        </p:grpSpPr>
        <p:sp>
          <p:nvSpPr>
            <p:cNvPr id="145" name=""/>
            <p:cNvSpPr/>
            <p:nvPr/>
          </p:nvSpPr>
          <p:spPr>
            <a:xfrm>
              <a:off x="3706920" y="1747800"/>
              <a:ext cx="475452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13320" y="1658880"/>
              <a:ext cx="4757400" cy="13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HelloWorld "A simple equatio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eal x(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art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=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(x)=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-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x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HelloWorld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53880" y="16081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: x’ = -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ndition: x(0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0960" y="3419640"/>
            <a:ext cx="80424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Simulation in OpenModelica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3600" y="3879720"/>
            <a:ext cx="8475480" cy="2324160"/>
            <a:chOff x="363600" y="3879720"/>
            <a:chExt cx="8475480" cy="2324160"/>
          </a:xfrm>
        </p:grpSpPr>
        <p:grpSp>
          <p:nvGrpSpPr>
            <p:cNvPr id="150" name=""/>
            <p:cNvGrpSpPr/>
            <p:nvPr/>
          </p:nvGrpSpPr>
          <p:grpSpPr>
            <a:xfrm>
              <a:off x="363600" y="3879720"/>
              <a:ext cx="3671640" cy="2324160"/>
              <a:chOff x="363600" y="3879720"/>
              <a:chExt cx="3671640" cy="23241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960" y="3995640"/>
                <a:ext cx="3554280" cy="2208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3600" y="3879720"/>
                <a:ext cx="3554280" cy="220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403920" y="3976560"/>
                <a:ext cx="3415680" cy="2068200"/>
                <a:chOff x="403920" y="3976560"/>
                <a:chExt cx="3415680" cy="206820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1485720" y="5848200"/>
                  <a:ext cx="1800" cy="20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387440" y="5908680"/>
                  <a:ext cx="26496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386720" y="5907240"/>
                  <a:ext cx="2066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0.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2230560" y="5848200"/>
                  <a:ext cx="1440" cy="20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200320" y="5908680"/>
                  <a:ext cx="13176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198160" y="5907240"/>
                  <a:ext cx="69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2975040" y="5848200"/>
                  <a:ext cx="1440" cy="20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76400" y="5908680"/>
                  <a:ext cx="26532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74240" y="5907240"/>
                  <a:ext cx="2066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1.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3717720" y="5848200"/>
                  <a:ext cx="1800" cy="20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686040" y="5908680"/>
                  <a:ext cx="13356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85680" y="5907240"/>
                  <a:ext cx="69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89064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103968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118908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133668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163512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178416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193356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208116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237960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252900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267804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2827440" y="5857560"/>
                  <a:ext cx="144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12408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27168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42252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3570120" y="5857560"/>
                  <a:ext cx="1800" cy="11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66720" y="5869080"/>
                  <a:ext cx="312588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1240" y="5502240"/>
                  <a:ext cx="208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2800" y="5448240"/>
                  <a:ext cx="265320" cy="1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03920" y="5446800"/>
                  <a:ext cx="2066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0.2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1240" y="5133960"/>
                  <a:ext cx="2088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2800" y="5081760"/>
                  <a:ext cx="26532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920" y="5079960"/>
                  <a:ext cx="2066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0.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1240" y="4765680"/>
                  <a:ext cx="2088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42800" y="4711680"/>
                  <a:ext cx="265320" cy="12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03920" y="4710240"/>
                  <a:ext cx="2066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0.6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1240" y="4398840"/>
                  <a:ext cx="208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2800" y="4344840"/>
                  <a:ext cx="265320" cy="1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3920" y="4343400"/>
                  <a:ext cx="2066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0.8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1240" y="4029120"/>
                  <a:ext cx="2088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74560" y="3978360"/>
                  <a:ext cx="133560" cy="1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36040" y="3976560"/>
                  <a:ext cx="69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900" spc="-1" strike="noStrike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1240" y="577692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1240" y="568656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1240" y="559440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1240" y="5410080"/>
                  <a:ext cx="11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1240" y="5316480"/>
                  <a:ext cx="11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41240" y="5224320"/>
                  <a:ext cx="11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1240" y="5041800"/>
                  <a:ext cx="11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1240" y="495000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1240" y="485784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1240" y="467532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240" y="458316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1240" y="4491000"/>
                  <a:ext cx="11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240" y="4305240"/>
                  <a:ext cx="11160" cy="18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1240" y="421488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1240" y="4122720"/>
                  <a:ext cx="111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741240" y="3984120"/>
                  <a:ext cx="1800" cy="1930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1240" y="4029120"/>
                  <a:ext cx="2976480" cy="1590480"/>
                </a:xfrm>
                <a:custGeom>
                  <a:avLst/>
                  <a:gdLst/>
                  <a:ahLst/>
                  <a:rect l="l" t="t" r="r" b="b"/>
                  <a:pathLst>
                    <a:path w="3751" h="2004">
                      <a:moveTo>
                        <a:pt x="0" y="0"/>
                      </a:moveTo>
                      <a:lnTo>
                        <a:pt x="153" y="182"/>
                      </a:lnTo>
                      <a:lnTo>
                        <a:pt x="317" y="362"/>
                      </a:lnTo>
                      <a:lnTo>
                        <a:pt x="473" y="518"/>
                      </a:lnTo>
                      <a:lnTo>
                        <a:pt x="626" y="657"/>
                      </a:lnTo>
                      <a:lnTo>
                        <a:pt x="782" y="792"/>
                      </a:lnTo>
                      <a:lnTo>
                        <a:pt x="937" y="912"/>
                      </a:lnTo>
                      <a:lnTo>
                        <a:pt x="1101" y="1030"/>
                      </a:lnTo>
                      <a:lnTo>
                        <a:pt x="1259" y="1132"/>
                      </a:lnTo>
                      <a:lnTo>
                        <a:pt x="1410" y="1225"/>
                      </a:lnTo>
                      <a:lnTo>
                        <a:pt x="1570" y="1314"/>
                      </a:lnTo>
                      <a:lnTo>
                        <a:pt x="1726" y="1394"/>
                      </a:lnTo>
                      <a:lnTo>
                        <a:pt x="1873" y="1465"/>
                      </a:lnTo>
                      <a:lnTo>
                        <a:pt x="2033" y="1534"/>
                      </a:lnTo>
                      <a:lnTo>
                        <a:pt x="2186" y="1595"/>
                      </a:lnTo>
                      <a:lnTo>
                        <a:pt x="2349" y="1655"/>
                      </a:lnTo>
                      <a:lnTo>
                        <a:pt x="2505" y="1707"/>
                      </a:lnTo>
                      <a:lnTo>
                        <a:pt x="2654" y="1754"/>
                      </a:lnTo>
                      <a:lnTo>
                        <a:pt x="2814" y="1799"/>
                      </a:lnTo>
                      <a:lnTo>
                        <a:pt x="2970" y="1843"/>
                      </a:lnTo>
                      <a:lnTo>
                        <a:pt x="3133" y="1881"/>
                      </a:lnTo>
                      <a:lnTo>
                        <a:pt x="3289" y="1915"/>
                      </a:lnTo>
                      <a:lnTo>
                        <a:pt x="3443" y="1947"/>
                      </a:lnTo>
                      <a:lnTo>
                        <a:pt x="3603" y="1978"/>
                      </a:lnTo>
                      <a:lnTo>
                        <a:pt x="3751" y="2004"/>
                      </a:lnTo>
                    </a:path>
                  </a:pathLst>
                </a:custGeom>
                <a:noFill/>
                <a:ln w="30240">
                  <a:solidFill>
                    <a:srgbClr val="6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2846520" y="4257720"/>
              <a:ext cx="5992560" cy="685800"/>
              <a:chOff x="2846520" y="4257720"/>
              <a:chExt cx="5992560" cy="685800"/>
            </a:xfrm>
          </p:grpSpPr>
          <p:sp>
            <p:nvSpPr>
              <p:cNvPr id="216" name=""/>
              <p:cNvSpPr/>
              <p:nvPr/>
            </p:nvSpPr>
            <p:spPr>
              <a:xfrm>
                <a:off x="2935080" y="4346640"/>
                <a:ext cx="5904000" cy="5889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21120" y="4848120"/>
                <a:ext cx="115920" cy="8892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3917880" y="4844880"/>
                <a:ext cx="0" cy="9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46520" y="4257720"/>
                <a:ext cx="5903640" cy="58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000000"/>
                    </a:solidFill>
                    <a:latin typeface="Courier New"/>
                  </a:rPr>
                  <a:t>s</a:t>
                </a: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imulate</a:t>
                </a:r>
                <a:r>
                  <a:rPr b="1" lang="sv-SE" sz="1600" spc="-1" strike="noStrike">
                    <a:solidFill>
                      <a:srgbClr val="000000"/>
                    </a:solidFill>
                    <a:latin typeface="Courier New"/>
                  </a:rPr>
                  <a:t>(</a:t>
                </a: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HelloWorld, </a:t>
                </a:r>
                <a:r>
                  <a:rPr b="1" lang="sv-SE" sz="1600" spc="-1" strike="noStrike">
                    <a:solidFill>
                      <a:srgbClr val="000000"/>
                    </a:solidFill>
                    <a:latin typeface="Courier New"/>
                  </a:rPr>
                  <a:t>stopTime = </a:t>
                </a: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r>
                  <a:rPr b="1" lang="sv-SE" sz="1600" spc="-1" strike="noStrike">
                    <a:solidFill>
                      <a:srgbClr val="000000"/>
                    </a:solidFill>
                    <a:latin typeface="Courier New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v-SE" sz="1600" spc="-1" strike="noStrike">
                    <a:solidFill>
                      <a:srgbClr val="000000"/>
                    </a:solidFill>
                    <a:latin typeface="Courier New"/>
                  </a:rPr>
                  <a:t>plot(</a:t>
                </a:r>
                <a:r>
                  <a:rPr b="1" sz="16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1" lang="sv-SE" sz="1600" spc="-1" strike="noStrike">
                    <a:solidFill>
                      <a:srgbClr val="000000"/>
                    </a:solidFill>
                    <a:latin typeface="Courier New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765680" y="3389400"/>
            <a:ext cx="3970440" cy="2554200"/>
            <a:chOff x="4765680" y="3389400"/>
            <a:chExt cx="3970440" cy="2554200"/>
          </a:xfrm>
        </p:grpSpPr>
        <p:sp>
          <p:nvSpPr>
            <p:cNvPr id="221" name=""/>
            <p:cNvSpPr/>
            <p:nvPr/>
          </p:nvSpPr>
          <p:spPr>
            <a:xfrm>
              <a:off x="4854600" y="3468600"/>
              <a:ext cx="3872160" cy="2475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65680" y="3389400"/>
              <a:ext cx="3872160" cy="247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978440" y="4632120"/>
              <a:ext cx="180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05360" y="4700520"/>
              <a:ext cx="2224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848560" y="4632120"/>
              <a:ext cx="144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75480" y="4700520"/>
              <a:ext cx="2221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75120" y="469908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588440" y="4632120"/>
              <a:ext cx="144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51720" y="4700520"/>
              <a:ext cx="1479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1360" y="469908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8458200" y="4632120"/>
              <a:ext cx="180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21840" y="4700520"/>
              <a:ext cx="147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21480" y="469908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515304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32476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50080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67396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2316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19452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36912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654372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89148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06608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23924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41204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75980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793440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109000" y="4638600"/>
              <a:ext cx="18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282160" y="463860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94560" y="4654440"/>
              <a:ext cx="3647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18320" y="5681520"/>
              <a:ext cx="22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27880" y="5624640"/>
              <a:ext cx="220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27880" y="562284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18320" y="516744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27880" y="5108400"/>
              <a:ext cx="2206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27880" y="510696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18320" y="414036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00960" y="4081320"/>
              <a:ext cx="1476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00600" y="407988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18320" y="3627360"/>
              <a:ext cx="22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00960" y="3568680"/>
              <a:ext cx="1476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00600" y="3568680"/>
              <a:ext cx="77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18320" y="5578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18320" y="5475240"/>
              <a:ext cx="12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18320" y="537372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18320" y="52689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18320" y="506412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18320" y="496260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18320" y="4859280"/>
              <a:ext cx="12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18320" y="475632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18320" y="455292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18320" y="44481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18320" y="4344840"/>
              <a:ext cx="12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8320" y="424512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18320" y="403704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18320" y="393552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18320" y="3833640"/>
              <a:ext cx="12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18320" y="3728880"/>
              <a:ext cx="12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718320" y="3525840"/>
              <a:ext cx="1800" cy="225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37520" y="4140360"/>
              <a:ext cx="2392200" cy="1349280"/>
            </a:xfrm>
            <a:custGeom>
              <a:avLst/>
              <a:gdLst/>
              <a:ahLst/>
              <a:rect l="l" t="t" r="r" b="b"/>
              <a:pathLst>
                <a:path w="3015" h="1701">
                  <a:moveTo>
                    <a:pt x="2584" y="0"/>
                  </a:moveTo>
                  <a:lnTo>
                    <a:pt x="2709" y="88"/>
                  </a:lnTo>
                  <a:lnTo>
                    <a:pt x="2807" y="181"/>
                  </a:lnTo>
                  <a:lnTo>
                    <a:pt x="2894" y="288"/>
                  </a:lnTo>
                  <a:lnTo>
                    <a:pt x="2934" y="351"/>
                  </a:lnTo>
                  <a:lnTo>
                    <a:pt x="2963" y="409"/>
                  </a:lnTo>
                  <a:lnTo>
                    <a:pt x="2986" y="472"/>
                  </a:lnTo>
                  <a:lnTo>
                    <a:pt x="3003" y="530"/>
                  </a:lnTo>
                  <a:lnTo>
                    <a:pt x="3007" y="559"/>
                  </a:lnTo>
                  <a:lnTo>
                    <a:pt x="3009" y="576"/>
                  </a:lnTo>
                  <a:lnTo>
                    <a:pt x="3013" y="591"/>
                  </a:lnTo>
                  <a:lnTo>
                    <a:pt x="3015" y="624"/>
                  </a:lnTo>
                  <a:lnTo>
                    <a:pt x="3015" y="641"/>
                  </a:lnTo>
                  <a:lnTo>
                    <a:pt x="3015" y="659"/>
                  </a:lnTo>
                  <a:lnTo>
                    <a:pt x="3015" y="685"/>
                  </a:lnTo>
                  <a:lnTo>
                    <a:pt x="3013" y="712"/>
                  </a:lnTo>
                  <a:lnTo>
                    <a:pt x="3007" y="741"/>
                  </a:lnTo>
                  <a:lnTo>
                    <a:pt x="3003" y="757"/>
                  </a:lnTo>
                  <a:lnTo>
                    <a:pt x="2999" y="770"/>
                  </a:lnTo>
                  <a:lnTo>
                    <a:pt x="2984" y="826"/>
                  </a:lnTo>
                  <a:lnTo>
                    <a:pt x="2963" y="874"/>
                  </a:lnTo>
                  <a:lnTo>
                    <a:pt x="2936" y="927"/>
                  </a:lnTo>
                  <a:lnTo>
                    <a:pt x="2901" y="983"/>
                  </a:lnTo>
                  <a:lnTo>
                    <a:pt x="2807" y="1085"/>
                  </a:lnTo>
                  <a:lnTo>
                    <a:pt x="2700" y="1181"/>
                  </a:lnTo>
                  <a:lnTo>
                    <a:pt x="2581" y="1260"/>
                  </a:lnTo>
                  <a:lnTo>
                    <a:pt x="2250" y="1429"/>
                  </a:lnTo>
                  <a:lnTo>
                    <a:pt x="2035" y="1513"/>
                  </a:lnTo>
                  <a:lnTo>
                    <a:pt x="1818" y="1582"/>
                  </a:lnTo>
                  <a:lnTo>
                    <a:pt x="1615" y="1636"/>
                  </a:lnTo>
                  <a:lnTo>
                    <a:pt x="1496" y="1657"/>
                  </a:lnTo>
                  <a:lnTo>
                    <a:pt x="1385" y="1676"/>
                  </a:lnTo>
                  <a:lnTo>
                    <a:pt x="1289" y="1688"/>
                  </a:lnTo>
                  <a:lnTo>
                    <a:pt x="1233" y="1692"/>
                  </a:lnTo>
                  <a:lnTo>
                    <a:pt x="1183" y="1697"/>
                  </a:lnTo>
                  <a:lnTo>
                    <a:pt x="1131" y="1699"/>
                  </a:lnTo>
                  <a:lnTo>
                    <a:pt x="1074" y="1701"/>
                  </a:lnTo>
                  <a:lnTo>
                    <a:pt x="1014" y="1701"/>
                  </a:lnTo>
                  <a:lnTo>
                    <a:pt x="956" y="1699"/>
                  </a:lnTo>
                  <a:lnTo>
                    <a:pt x="897" y="1697"/>
                  </a:lnTo>
                  <a:lnTo>
                    <a:pt x="862" y="1692"/>
                  </a:lnTo>
                  <a:lnTo>
                    <a:pt x="834" y="1690"/>
                  </a:lnTo>
                  <a:lnTo>
                    <a:pt x="776" y="1684"/>
                  </a:lnTo>
                  <a:lnTo>
                    <a:pt x="717" y="1674"/>
                  </a:lnTo>
                  <a:lnTo>
                    <a:pt x="613" y="1653"/>
                  </a:lnTo>
                  <a:lnTo>
                    <a:pt x="502" y="1621"/>
                  </a:lnTo>
                  <a:lnTo>
                    <a:pt x="390" y="1580"/>
                  </a:lnTo>
                  <a:lnTo>
                    <a:pt x="271" y="1526"/>
                  </a:lnTo>
                  <a:lnTo>
                    <a:pt x="85" y="1407"/>
                  </a:lnTo>
                  <a:lnTo>
                    <a:pt x="0" y="1338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9600" y="3693960"/>
              <a:ext cx="2990880" cy="1508400"/>
            </a:xfrm>
            <a:custGeom>
              <a:avLst/>
              <a:gdLst/>
              <a:ahLst/>
              <a:rect l="l" t="t" r="r" b="b"/>
              <a:pathLst>
                <a:path w="3769" h="1899">
                  <a:moveTo>
                    <a:pt x="349" y="1899"/>
                  </a:moveTo>
                  <a:lnTo>
                    <a:pt x="271" y="1824"/>
                  </a:lnTo>
                  <a:lnTo>
                    <a:pt x="156" y="1675"/>
                  </a:lnTo>
                  <a:lnTo>
                    <a:pt x="100" y="1582"/>
                  </a:lnTo>
                  <a:lnTo>
                    <a:pt x="58" y="1494"/>
                  </a:lnTo>
                  <a:lnTo>
                    <a:pt x="31" y="1415"/>
                  </a:lnTo>
                  <a:lnTo>
                    <a:pt x="19" y="1373"/>
                  </a:lnTo>
                  <a:lnTo>
                    <a:pt x="12" y="1331"/>
                  </a:lnTo>
                  <a:lnTo>
                    <a:pt x="6" y="1296"/>
                  </a:lnTo>
                  <a:lnTo>
                    <a:pt x="2" y="1260"/>
                  </a:lnTo>
                  <a:lnTo>
                    <a:pt x="0" y="1229"/>
                  </a:lnTo>
                  <a:lnTo>
                    <a:pt x="0" y="1197"/>
                  </a:lnTo>
                  <a:lnTo>
                    <a:pt x="2" y="1162"/>
                  </a:lnTo>
                  <a:lnTo>
                    <a:pt x="2" y="1141"/>
                  </a:lnTo>
                  <a:lnTo>
                    <a:pt x="6" y="1126"/>
                  </a:lnTo>
                  <a:lnTo>
                    <a:pt x="12" y="1089"/>
                  </a:lnTo>
                  <a:lnTo>
                    <a:pt x="19" y="1058"/>
                  </a:lnTo>
                  <a:lnTo>
                    <a:pt x="37" y="997"/>
                  </a:lnTo>
                  <a:lnTo>
                    <a:pt x="52" y="966"/>
                  </a:lnTo>
                  <a:lnTo>
                    <a:pt x="67" y="932"/>
                  </a:lnTo>
                  <a:lnTo>
                    <a:pt x="102" y="872"/>
                  </a:lnTo>
                  <a:lnTo>
                    <a:pt x="148" y="811"/>
                  </a:lnTo>
                  <a:lnTo>
                    <a:pt x="246" y="707"/>
                  </a:lnTo>
                  <a:lnTo>
                    <a:pt x="359" y="615"/>
                  </a:lnTo>
                  <a:lnTo>
                    <a:pt x="682" y="427"/>
                  </a:lnTo>
                  <a:lnTo>
                    <a:pt x="1114" y="244"/>
                  </a:lnTo>
                  <a:lnTo>
                    <a:pt x="1329" y="171"/>
                  </a:lnTo>
                  <a:lnTo>
                    <a:pt x="1576" y="102"/>
                  </a:lnTo>
                  <a:lnTo>
                    <a:pt x="1816" y="52"/>
                  </a:lnTo>
                  <a:lnTo>
                    <a:pt x="1958" y="29"/>
                  </a:lnTo>
                  <a:lnTo>
                    <a:pt x="2025" y="20"/>
                  </a:lnTo>
                  <a:lnTo>
                    <a:pt x="2093" y="12"/>
                  </a:lnTo>
                  <a:lnTo>
                    <a:pt x="2152" y="8"/>
                  </a:lnTo>
                  <a:lnTo>
                    <a:pt x="2215" y="4"/>
                  </a:lnTo>
                  <a:lnTo>
                    <a:pt x="2277" y="0"/>
                  </a:lnTo>
                  <a:lnTo>
                    <a:pt x="2329" y="0"/>
                  </a:lnTo>
                  <a:lnTo>
                    <a:pt x="2388" y="0"/>
                  </a:lnTo>
                  <a:lnTo>
                    <a:pt x="2455" y="4"/>
                  </a:lnTo>
                  <a:lnTo>
                    <a:pt x="2521" y="8"/>
                  </a:lnTo>
                  <a:lnTo>
                    <a:pt x="2586" y="18"/>
                  </a:lnTo>
                  <a:lnTo>
                    <a:pt x="2655" y="25"/>
                  </a:lnTo>
                  <a:lnTo>
                    <a:pt x="2718" y="39"/>
                  </a:lnTo>
                  <a:lnTo>
                    <a:pt x="2786" y="52"/>
                  </a:lnTo>
                  <a:lnTo>
                    <a:pt x="2857" y="71"/>
                  </a:lnTo>
                  <a:lnTo>
                    <a:pt x="2980" y="112"/>
                  </a:lnTo>
                  <a:lnTo>
                    <a:pt x="3093" y="160"/>
                  </a:lnTo>
                  <a:lnTo>
                    <a:pt x="3214" y="223"/>
                  </a:lnTo>
                  <a:lnTo>
                    <a:pt x="3319" y="292"/>
                  </a:lnTo>
                  <a:lnTo>
                    <a:pt x="3527" y="471"/>
                  </a:lnTo>
                  <a:lnTo>
                    <a:pt x="3661" y="634"/>
                  </a:lnTo>
                  <a:lnTo>
                    <a:pt x="3769" y="820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2880" y="4344840"/>
              <a:ext cx="3105360" cy="1335240"/>
            </a:xfrm>
            <a:custGeom>
              <a:avLst/>
              <a:gdLst/>
              <a:ahLst/>
              <a:rect l="l" t="t" r="r" b="b"/>
              <a:pathLst>
                <a:path w="3913" h="1682">
                  <a:moveTo>
                    <a:pt x="3815" y="0"/>
                  </a:moveTo>
                  <a:lnTo>
                    <a:pt x="3855" y="92"/>
                  </a:lnTo>
                  <a:lnTo>
                    <a:pt x="3872" y="142"/>
                  </a:lnTo>
                  <a:lnTo>
                    <a:pt x="3884" y="190"/>
                  </a:lnTo>
                  <a:lnTo>
                    <a:pt x="3897" y="231"/>
                  </a:lnTo>
                  <a:lnTo>
                    <a:pt x="3899" y="254"/>
                  </a:lnTo>
                  <a:lnTo>
                    <a:pt x="3903" y="277"/>
                  </a:lnTo>
                  <a:lnTo>
                    <a:pt x="3907" y="319"/>
                  </a:lnTo>
                  <a:lnTo>
                    <a:pt x="3913" y="355"/>
                  </a:lnTo>
                  <a:lnTo>
                    <a:pt x="3913" y="394"/>
                  </a:lnTo>
                  <a:lnTo>
                    <a:pt x="3911" y="432"/>
                  </a:lnTo>
                  <a:lnTo>
                    <a:pt x="3907" y="469"/>
                  </a:lnTo>
                  <a:lnTo>
                    <a:pt x="3905" y="486"/>
                  </a:lnTo>
                  <a:lnTo>
                    <a:pt x="3901" y="507"/>
                  </a:lnTo>
                  <a:lnTo>
                    <a:pt x="3893" y="542"/>
                  </a:lnTo>
                  <a:lnTo>
                    <a:pt x="3884" y="576"/>
                  </a:lnTo>
                  <a:lnTo>
                    <a:pt x="3876" y="609"/>
                  </a:lnTo>
                  <a:lnTo>
                    <a:pt x="3865" y="638"/>
                  </a:lnTo>
                  <a:lnTo>
                    <a:pt x="3836" y="693"/>
                  </a:lnTo>
                  <a:lnTo>
                    <a:pt x="3801" y="751"/>
                  </a:lnTo>
                  <a:lnTo>
                    <a:pt x="3724" y="847"/>
                  </a:lnTo>
                  <a:lnTo>
                    <a:pt x="3613" y="951"/>
                  </a:lnTo>
                  <a:lnTo>
                    <a:pt x="3492" y="1037"/>
                  </a:lnTo>
                  <a:lnTo>
                    <a:pt x="3147" y="1227"/>
                  </a:lnTo>
                  <a:lnTo>
                    <a:pt x="2734" y="1398"/>
                  </a:lnTo>
                  <a:lnTo>
                    <a:pt x="2467" y="1486"/>
                  </a:lnTo>
                  <a:lnTo>
                    <a:pt x="2202" y="1561"/>
                  </a:lnTo>
                  <a:lnTo>
                    <a:pt x="1954" y="1619"/>
                  </a:lnTo>
                  <a:lnTo>
                    <a:pt x="1812" y="1646"/>
                  </a:lnTo>
                  <a:lnTo>
                    <a:pt x="1678" y="1663"/>
                  </a:lnTo>
                  <a:lnTo>
                    <a:pt x="1641" y="1667"/>
                  </a:lnTo>
                  <a:lnTo>
                    <a:pt x="1603" y="1671"/>
                  </a:lnTo>
                  <a:lnTo>
                    <a:pt x="1530" y="1676"/>
                  </a:lnTo>
                  <a:lnTo>
                    <a:pt x="1492" y="1680"/>
                  </a:lnTo>
                  <a:lnTo>
                    <a:pt x="1455" y="1680"/>
                  </a:lnTo>
                  <a:lnTo>
                    <a:pt x="1411" y="1682"/>
                  </a:lnTo>
                  <a:lnTo>
                    <a:pt x="1371" y="1682"/>
                  </a:lnTo>
                  <a:lnTo>
                    <a:pt x="1296" y="1680"/>
                  </a:lnTo>
                  <a:lnTo>
                    <a:pt x="1231" y="1676"/>
                  </a:lnTo>
                  <a:lnTo>
                    <a:pt x="1160" y="1673"/>
                  </a:lnTo>
                  <a:lnTo>
                    <a:pt x="1117" y="1667"/>
                  </a:lnTo>
                  <a:lnTo>
                    <a:pt x="1081" y="1663"/>
                  </a:lnTo>
                  <a:lnTo>
                    <a:pt x="1006" y="1650"/>
                  </a:lnTo>
                  <a:lnTo>
                    <a:pt x="925" y="1632"/>
                  </a:lnTo>
                  <a:lnTo>
                    <a:pt x="785" y="1594"/>
                  </a:lnTo>
                  <a:lnTo>
                    <a:pt x="649" y="1546"/>
                  </a:lnTo>
                  <a:lnTo>
                    <a:pt x="534" y="1494"/>
                  </a:lnTo>
                  <a:lnTo>
                    <a:pt x="290" y="1337"/>
                  </a:lnTo>
                  <a:lnTo>
                    <a:pt x="184" y="1244"/>
                  </a:lnTo>
                  <a:lnTo>
                    <a:pt x="81" y="1137"/>
                  </a:lnTo>
                  <a:lnTo>
                    <a:pt x="0" y="1037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32440" y="3600360"/>
              <a:ext cx="3328920" cy="1568520"/>
            </a:xfrm>
            <a:custGeom>
              <a:avLst/>
              <a:gdLst/>
              <a:ahLst/>
              <a:rect l="l" t="t" r="r" b="b"/>
              <a:pathLst>
                <a:path w="4195" h="1976">
                  <a:moveTo>
                    <a:pt x="240" y="1976"/>
                  </a:moveTo>
                  <a:lnTo>
                    <a:pt x="169" y="1869"/>
                  </a:lnTo>
                  <a:lnTo>
                    <a:pt x="117" y="1774"/>
                  </a:lnTo>
                  <a:lnTo>
                    <a:pt x="71" y="1675"/>
                  </a:lnTo>
                  <a:lnTo>
                    <a:pt x="40" y="1586"/>
                  </a:lnTo>
                  <a:lnTo>
                    <a:pt x="27" y="1540"/>
                  </a:lnTo>
                  <a:lnTo>
                    <a:pt x="15" y="1492"/>
                  </a:lnTo>
                  <a:lnTo>
                    <a:pt x="10" y="1450"/>
                  </a:lnTo>
                  <a:lnTo>
                    <a:pt x="4" y="1412"/>
                  </a:lnTo>
                  <a:lnTo>
                    <a:pt x="2" y="1373"/>
                  </a:lnTo>
                  <a:lnTo>
                    <a:pt x="0" y="1339"/>
                  </a:lnTo>
                  <a:lnTo>
                    <a:pt x="0" y="1294"/>
                  </a:lnTo>
                  <a:lnTo>
                    <a:pt x="4" y="1258"/>
                  </a:lnTo>
                  <a:lnTo>
                    <a:pt x="4" y="1237"/>
                  </a:lnTo>
                  <a:lnTo>
                    <a:pt x="10" y="1214"/>
                  </a:lnTo>
                  <a:lnTo>
                    <a:pt x="15" y="1175"/>
                  </a:lnTo>
                  <a:lnTo>
                    <a:pt x="25" y="1141"/>
                  </a:lnTo>
                  <a:lnTo>
                    <a:pt x="36" y="1102"/>
                  </a:lnTo>
                  <a:lnTo>
                    <a:pt x="63" y="1041"/>
                  </a:lnTo>
                  <a:lnTo>
                    <a:pt x="104" y="974"/>
                  </a:lnTo>
                  <a:lnTo>
                    <a:pt x="144" y="912"/>
                  </a:lnTo>
                  <a:lnTo>
                    <a:pt x="267" y="789"/>
                  </a:lnTo>
                  <a:lnTo>
                    <a:pt x="399" y="688"/>
                  </a:lnTo>
                  <a:lnTo>
                    <a:pt x="564" y="586"/>
                  </a:lnTo>
                  <a:lnTo>
                    <a:pt x="931" y="411"/>
                  </a:lnTo>
                  <a:lnTo>
                    <a:pt x="1357" y="252"/>
                  </a:lnTo>
                  <a:lnTo>
                    <a:pt x="1812" y="116"/>
                  </a:lnTo>
                  <a:lnTo>
                    <a:pt x="2068" y="60"/>
                  </a:lnTo>
                  <a:lnTo>
                    <a:pt x="2217" y="35"/>
                  </a:lnTo>
                  <a:lnTo>
                    <a:pt x="2288" y="23"/>
                  </a:lnTo>
                  <a:lnTo>
                    <a:pt x="2356" y="18"/>
                  </a:lnTo>
                  <a:lnTo>
                    <a:pt x="2419" y="10"/>
                  </a:lnTo>
                  <a:lnTo>
                    <a:pt x="2478" y="4"/>
                  </a:lnTo>
                  <a:lnTo>
                    <a:pt x="2544" y="2"/>
                  </a:lnTo>
                  <a:lnTo>
                    <a:pt x="2615" y="0"/>
                  </a:lnTo>
                  <a:lnTo>
                    <a:pt x="2682" y="0"/>
                  </a:lnTo>
                  <a:lnTo>
                    <a:pt x="2755" y="2"/>
                  </a:lnTo>
                  <a:lnTo>
                    <a:pt x="2824" y="8"/>
                  </a:lnTo>
                  <a:lnTo>
                    <a:pt x="2889" y="12"/>
                  </a:lnTo>
                  <a:lnTo>
                    <a:pt x="2956" y="21"/>
                  </a:lnTo>
                  <a:lnTo>
                    <a:pt x="3031" y="35"/>
                  </a:lnTo>
                  <a:lnTo>
                    <a:pt x="3162" y="66"/>
                  </a:lnTo>
                  <a:lnTo>
                    <a:pt x="3314" y="114"/>
                  </a:lnTo>
                  <a:lnTo>
                    <a:pt x="3444" y="167"/>
                  </a:lnTo>
                  <a:lnTo>
                    <a:pt x="3575" y="237"/>
                  </a:lnTo>
                  <a:lnTo>
                    <a:pt x="3705" y="327"/>
                  </a:lnTo>
                  <a:lnTo>
                    <a:pt x="3916" y="513"/>
                  </a:lnTo>
                  <a:lnTo>
                    <a:pt x="4003" y="613"/>
                  </a:lnTo>
                  <a:lnTo>
                    <a:pt x="4085" y="726"/>
                  </a:lnTo>
                  <a:lnTo>
                    <a:pt x="4145" y="826"/>
                  </a:lnTo>
                  <a:lnTo>
                    <a:pt x="4195" y="932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2680" y="4338720"/>
              <a:ext cx="3371760" cy="1382760"/>
            </a:xfrm>
            <a:custGeom>
              <a:avLst/>
              <a:gdLst/>
              <a:ahLst/>
              <a:rect l="l" t="t" r="r" b="b"/>
              <a:pathLst>
                <a:path w="4249" h="1741">
                  <a:moveTo>
                    <a:pt x="4157" y="0"/>
                  </a:moveTo>
                  <a:lnTo>
                    <a:pt x="4195" y="92"/>
                  </a:lnTo>
                  <a:lnTo>
                    <a:pt x="4209" y="140"/>
                  </a:lnTo>
                  <a:lnTo>
                    <a:pt x="4222" y="188"/>
                  </a:lnTo>
                  <a:lnTo>
                    <a:pt x="4234" y="234"/>
                  </a:lnTo>
                  <a:lnTo>
                    <a:pt x="4241" y="276"/>
                  </a:lnTo>
                  <a:lnTo>
                    <a:pt x="4245" y="314"/>
                  </a:lnTo>
                  <a:lnTo>
                    <a:pt x="4247" y="351"/>
                  </a:lnTo>
                  <a:lnTo>
                    <a:pt x="4249" y="391"/>
                  </a:lnTo>
                  <a:lnTo>
                    <a:pt x="4249" y="416"/>
                  </a:lnTo>
                  <a:lnTo>
                    <a:pt x="4247" y="435"/>
                  </a:lnTo>
                  <a:lnTo>
                    <a:pt x="4245" y="478"/>
                  </a:lnTo>
                  <a:lnTo>
                    <a:pt x="4243" y="501"/>
                  </a:lnTo>
                  <a:lnTo>
                    <a:pt x="4237" y="522"/>
                  </a:lnTo>
                  <a:lnTo>
                    <a:pt x="4222" y="589"/>
                  </a:lnTo>
                  <a:lnTo>
                    <a:pt x="4211" y="624"/>
                  </a:lnTo>
                  <a:lnTo>
                    <a:pt x="4197" y="660"/>
                  </a:lnTo>
                  <a:lnTo>
                    <a:pt x="4161" y="733"/>
                  </a:lnTo>
                  <a:lnTo>
                    <a:pt x="4113" y="804"/>
                  </a:lnTo>
                  <a:lnTo>
                    <a:pt x="4001" y="921"/>
                  </a:lnTo>
                  <a:lnTo>
                    <a:pt x="3863" y="1029"/>
                  </a:lnTo>
                  <a:lnTo>
                    <a:pt x="3717" y="1123"/>
                  </a:lnTo>
                  <a:lnTo>
                    <a:pt x="3306" y="1319"/>
                  </a:lnTo>
                  <a:lnTo>
                    <a:pt x="2870" y="1482"/>
                  </a:lnTo>
                  <a:lnTo>
                    <a:pt x="2598" y="1568"/>
                  </a:lnTo>
                  <a:lnTo>
                    <a:pt x="2333" y="1637"/>
                  </a:lnTo>
                  <a:lnTo>
                    <a:pt x="2202" y="1668"/>
                  </a:lnTo>
                  <a:lnTo>
                    <a:pt x="2058" y="1695"/>
                  </a:lnTo>
                  <a:lnTo>
                    <a:pt x="1920" y="1716"/>
                  </a:lnTo>
                  <a:lnTo>
                    <a:pt x="1788" y="1729"/>
                  </a:lnTo>
                  <a:lnTo>
                    <a:pt x="1717" y="1735"/>
                  </a:lnTo>
                  <a:lnTo>
                    <a:pt x="1651" y="1739"/>
                  </a:lnTo>
                  <a:lnTo>
                    <a:pt x="1575" y="1741"/>
                  </a:lnTo>
                  <a:lnTo>
                    <a:pt x="1532" y="1739"/>
                  </a:lnTo>
                  <a:lnTo>
                    <a:pt x="1494" y="1739"/>
                  </a:lnTo>
                  <a:lnTo>
                    <a:pt x="1423" y="1737"/>
                  </a:lnTo>
                  <a:lnTo>
                    <a:pt x="1383" y="1735"/>
                  </a:lnTo>
                  <a:lnTo>
                    <a:pt x="1342" y="1729"/>
                  </a:lnTo>
                  <a:lnTo>
                    <a:pt x="1267" y="1722"/>
                  </a:lnTo>
                  <a:lnTo>
                    <a:pt x="1225" y="1714"/>
                  </a:lnTo>
                  <a:lnTo>
                    <a:pt x="1187" y="1706"/>
                  </a:lnTo>
                  <a:lnTo>
                    <a:pt x="1051" y="1680"/>
                  </a:lnTo>
                  <a:lnTo>
                    <a:pt x="930" y="1643"/>
                  </a:lnTo>
                  <a:lnTo>
                    <a:pt x="797" y="1589"/>
                  </a:lnTo>
                  <a:lnTo>
                    <a:pt x="668" y="1526"/>
                  </a:lnTo>
                  <a:lnTo>
                    <a:pt x="467" y="1392"/>
                  </a:lnTo>
                  <a:lnTo>
                    <a:pt x="279" y="1221"/>
                  </a:lnTo>
                  <a:lnTo>
                    <a:pt x="194" y="1121"/>
                  </a:lnTo>
                  <a:lnTo>
                    <a:pt x="110" y="1011"/>
                  </a:lnTo>
                  <a:lnTo>
                    <a:pt x="52" y="912"/>
                  </a:lnTo>
                  <a:lnTo>
                    <a:pt x="0" y="806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86360" y="3583080"/>
              <a:ext cx="3467160" cy="1395360"/>
            </a:xfrm>
            <a:custGeom>
              <a:avLst/>
              <a:gdLst/>
              <a:ahLst/>
              <a:rect l="l" t="t" r="r" b="b"/>
              <a:pathLst>
                <a:path w="4368" h="1759">
                  <a:moveTo>
                    <a:pt x="96" y="1759"/>
                  </a:moveTo>
                  <a:lnTo>
                    <a:pt x="54" y="1657"/>
                  </a:lnTo>
                  <a:lnTo>
                    <a:pt x="27" y="1569"/>
                  </a:lnTo>
                  <a:lnTo>
                    <a:pt x="20" y="1527"/>
                  </a:lnTo>
                  <a:lnTo>
                    <a:pt x="12" y="1484"/>
                  </a:lnTo>
                  <a:lnTo>
                    <a:pt x="4" y="1442"/>
                  </a:lnTo>
                  <a:lnTo>
                    <a:pt x="2" y="1406"/>
                  </a:lnTo>
                  <a:lnTo>
                    <a:pt x="0" y="1363"/>
                  </a:lnTo>
                  <a:lnTo>
                    <a:pt x="0" y="1321"/>
                  </a:lnTo>
                  <a:lnTo>
                    <a:pt x="4" y="1279"/>
                  </a:lnTo>
                  <a:lnTo>
                    <a:pt x="6" y="1244"/>
                  </a:lnTo>
                  <a:lnTo>
                    <a:pt x="16" y="1206"/>
                  </a:lnTo>
                  <a:lnTo>
                    <a:pt x="25" y="1162"/>
                  </a:lnTo>
                  <a:lnTo>
                    <a:pt x="50" y="1087"/>
                  </a:lnTo>
                  <a:lnTo>
                    <a:pt x="87" y="1016"/>
                  </a:lnTo>
                  <a:lnTo>
                    <a:pt x="133" y="947"/>
                  </a:lnTo>
                  <a:lnTo>
                    <a:pt x="238" y="832"/>
                  </a:lnTo>
                  <a:lnTo>
                    <a:pt x="363" y="732"/>
                  </a:lnTo>
                  <a:lnTo>
                    <a:pt x="496" y="643"/>
                  </a:lnTo>
                  <a:lnTo>
                    <a:pt x="853" y="465"/>
                  </a:lnTo>
                  <a:lnTo>
                    <a:pt x="1229" y="315"/>
                  </a:lnTo>
                  <a:lnTo>
                    <a:pt x="1696" y="163"/>
                  </a:lnTo>
                  <a:lnTo>
                    <a:pt x="1976" y="90"/>
                  </a:lnTo>
                  <a:lnTo>
                    <a:pt x="2243" y="39"/>
                  </a:lnTo>
                  <a:lnTo>
                    <a:pt x="2375" y="21"/>
                  </a:lnTo>
                  <a:lnTo>
                    <a:pt x="2450" y="12"/>
                  </a:lnTo>
                  <a:lnTo>
                    <a:pt x="2521" y="8"/>
                  </a:lnTo>
                  <a:lnTo>
                    <a:pt x="2581" y="2"/>
                  </a:lnTo>
                  <a:lnTo>
                    <a:pt x="2650" y="0"/>
                  </a:lnTo>
                  <a:lnTo>
                    <a:pt x="2721" y="0"/>
                  </a:lnTo>
                  <a:lnTo>
                    <a:pt x="2786" y="0"/>
                  </a:lnTo>
                  <a:lnTo>
                    <a:pt x="2863" y="6"/>
                  </a:lnTo>
                  <a:lnTo>
                    <a:pt x="2905" y="8"/>
                  </a:lnTo>
                  <a:lnTo>
                    <a:pt x="2947" y="12"/>
                  </a:lnTo>
                  <a:lnTo>
                    <a:pt x="3024" y="21"/>
                  </a:lnTo>
                  <a:lnTo>
                    <a:pt x="3095" y="35"/>
                  </a:lnTo>
                  <a:lnTo>
                    <a:pt x="3229" y="66"/>
                  </a:lnTo>
                  <a:lnTo>
                    <a:pt x="3366" y="110"/>
                  </a:lnTo>
                  <a:lnTo>
                    <a:pt x="3512" y="169"/>
                  </a:lnTo>
                  <a:lnTo>
                    <a:pt x="3656" y="246"/>
                  </a:lnTo>
                  <a:lnTo>
                    <a:pt x="3777" y="327"/>
                  </a:lnTo>
                  <a:lnTo>
                    <a:pt x="3892" y="421"/>
                  </a:lnTo>
                  <a:lnTo>
                    <a:pt x="4074" y="617"/>
                  </a:lnTo>
                  <a:lnTo>
                    <a:pt x="4205" y="805"/>
                  </a:lnTo>
                  <a:lnTo>
                    <a:pt x="4266" y="922"/>
                  </a:lnTo>
                  <a:lnTo>
                    <a:pt x="4308" y="1031"/>
                  </a:lnTo>
                  <a:lnTo>
                    <a:pt x="4339" y="1123"/>
                  </a:lnTo>
                  <a:lnTo>
                    <a:pt x="4351" y="1175"/>
                  </a:lnTo>
                  <a:lnTo>
                    <a:pt x="4358" y="1221"/>
                  </a:lnTo>
                  <a:lnTo>
                    <a:pt x="4364" y="1266"/>
                  </a:lnTo>
                  <a:lnTo>
                    <a:pt x="4368" y="1312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8440" y="4624560"/>
              <a:ext cx="3475080" cy="1103040"/>
            </a:xfrm>
            <a:custGeom>
              <a:avLst/>
              <a:gdLst/>
              <a:ahLst/>
              <a:rect l="l" t="t" r="r" b="b"/>
              <a:pathLst>
                <a:path w="4377" h="1390">
                  <a:moveTo>
                    <a:pt x="4377" y="0"/>
                  </a:moveTo>
                  <a:lnTo>
                    <a:pt x="4377" y="42"/>
                  </a:lnTo>
                  <a:lnTo>
                    <a:pt x="4377" y="80"/>
                  </a:lnTo>
                  <a:lnTo>
                    <a:pt x="4373" y="121"/>
                  </a:lnTo>
                  <a:lnTo>
                    <a:pt x="4371" y="146"/>
                  </a:lnTo>
                  <a:lnTo>
                    <a:pt x="4367" y="167"/>
                  </a:lnTo>
                  <a:lnTo>
                    <a:pt x="4358" y="205"/>
                  </a:lnTo>
                  <a:lnTo>
                    <a:pt x="4346" y="245"/>
                  </a:lnTo>
                  <a:lnTo>
                    <a:pt x="4333" y="284"/>
                  </a:lnTo>
                  <a:lnTo>
                    <a:pt x="4316" y="320"/>
                  </a:lnTo>
                  <a:lnTo>
                    <a:pt x="4281" y="386"/>
                  </a:lnTo>
                  <a:lnTo>
                    <a:pt x="4231" y="457"/>
                  </a:lnTo>
                  <a:lnTo>
                    <a:pt x="4177" y="518"/>
                  </a:lnTo>
                  <a:lnTo>
                    <a:pt x="4068" y="618"/>
                  </a:lnTo>
                  <a:lnTo>
                    <a:pt x="3928" y="716"/>
                  </a:lnTo>
                  <a:lnTo>
                    <a:pt x="3619" y="879"/>
                  </a:lnTo>
                  <a:lnTo>
                    <a:pt x="3171" y="1065"/>
                  </a:lnTo>
                  <a:lnTo>
                    <a:pt x="2684" y="1223"/>
                  </a:lnTo>
                  <a:lnTo>
                    <a:pt x="2424" y="1290"/>
                  </a:lnTo>
                  <a:lnTo>
                    <a:pt x="2275" y="1322"/>
                  </a:lnTo>
                  <a:lnTo>
                    <a:pt x="2133" y="1347"/>
                  </a:lnTo>
                  <a:lnTo>
                    <a:pt x="2010" y="1367"/>
                  </a:lnTo>
                  <a:lnTo>
                    <a:pt x="1946" y="1372"/>
                  </a:lnTo>
                  <a:lnTo>
                    <a:pt x="1875" y="1380"/>
                  </a:lnTo>
                  <a:lnTo>
                    <a:pt x="1804" y="1386"/>
                  </a:lnTo>
                  <a:lnTo>
                    <a:pt x="1726" y="1390"/>
                  </a:lnTo>
                  <a:lnTo>
                    <a:pt x="1655" y="1390"/>
                  </a:lnTo>
                  <a:lnTo>
                    <a:pt x="1587" y="1390"/>
                  </a:lnTo>
                  <a:lnTo>
                    <a:pt x="1511" y="1386"/>
                  </a:lnTo>
                  <a:lnTo>
                    <a:pt x="1467" y="1380"/>
                  </a:lnTo>
                  <a:lnTo>
                    <a:pt x="1424" y="1378"/>
                  </a:lnTo>
                  <a:lnTo>
                    <a:pt x="1351" y="1369"/>
                  </a:lnTo>
                  <a:lnTo>
                    <a:pt x="1276" y="1355"/>
                  </a:lnTo>
                  <a:lnTo>
                    <a:pt x="1205" y="1342"/>
                  </a:lnTo>
                  <a:lnTo>
                    <a:pt x="1142" y="1324"/>
                  </a:lnTo>
                  <a:lnTo>
                    <a:pt x="1002" y="1280"/>
                  </a:lnTo>
                  <a:lnTo>
                    <a:pt x="854" y="1219"/>
                  </a:lnTo>
                  <a:lnTo>
                    <a:pt x="731" y="1152"/>
                  </a:lnTo>
                  <a:lnTo>
                    <a:pt x="589" y="1059"/>
                  </a:lnTo>
                  <a:lnTo>
                    <a:pt x="478" y="963"/>
                  </a:lnTo>
                  <a:lnTo>
                    <a:pt x="299" y="777"/>
                  </a:lnTo>
                  <a:lnTo>
                    <a:pt x="224" y="677"/>
                  </a:lnTo>
                  <a:lnTo>
                    <a:pt x="155" y="566"/>
                  </a:lnTo>
                  <a:lnTo>
                    <a:pt x="103" y="464"/>
                  </a:lnTo>
                  <a:lnTo>
                    <a:pt x="63" y="374"/>
                  </a:lnTo>
                  <a:lnTo>
                    <a:pt x="36" y="288"/>
                  </a:lnTo>
                  <a:lnTo>
                    <a:pt x="15" y="201"/>
                  </a:lnTo>
                  <a:lnTo>
                    <a:pt x="9" y="153"/>
                  </a:lnTo>
                  <a:lnTo>
                    <a:pt x="4" y="111"/>
                  </a:lnTo>
                  <a:lnTo>
                    <a:pt x="2" y="88"/>
                  </a:lnTo>
                  <a:lnTo>
                    <a:pt x="0" y="63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78440" y="3579840"/>
              <a:ext cx="2786040" cy="1093680"/>
            </a:xfrm>
            <a:custGeom>
              <a:avLst/>
              <a:gdLst/>
              <a:ahLst/>
              <a:rect l="l" t="t" r="r" b="b"/>
              <a:pathLst>
                <a:path w="3509" h="1379">
                  <a:moveTo>
                    <a:pt x="0" y="1379"/>
                  </a:moveTo>
                  <a:lnTo>
                    <a:pt x="0" y="1335"/>
                  </a:lnTo>
                  <a:lnTo>
                    <a:pt x="2" y="1296"/>
                  </a:lnTo>
                  <a:lnTo>
                    <a:pt x="7" y="1254"/>
                  </a:lnTo>
                  <a:lnTo>
                    <a:pt x="11" y="1220"/>
                  </a:lnTo>
                  <a:lnTo>
                    <a:pt x="21" y="1183"/>
                  </a:lnTo>
                  <a:lnTo>
                    <a:pt x="32" y="1143"/>
                  </a:lnTo>
                  <a:lnTo>
                    <a:pt x="46" y="1108"/>
                  </a:lnTo>
                  <a:lnTo>
                    <a:pt x="82" y="1030"/>
                  </a:lnTo>
                  <a:lnTo>
                    <a:pt x="125" y="964"/>
                  </a:lnTo>
                  <a:lnTo>
                    <a:pt x="173" y="901"/>
                  </a:lnTo>
                  <a:lnTo>
                    <a:pt x="284" y="793"/>
                  </a:lnTo>
                  <a:lnTo>
                    <a:pt x="409" y="703"/>
                  </a:lnTo>
                  <a:lnTo>
                    <a:pt x="747" y="517"/>
                  </a:lnTo>
                  <a:lnTo>
                    <a:pt x="1132" y="354"/>
                  </a:lnTo>
                  <a:lnTo>
                    <a:pt x="1559" y="206"/>
                  </a:lnTo>
                  <a:lnTo>
                    <a:pt x="2021" y="85"/>
                  </a:lnTo>
                  <a:lnTo>
                    <a:pt x="2142" y="60"/>
                  </a:lnTo>
                  <a:lnTo>
                    <a:pt x="2273" y="37"/>
                  </a:lnTo>
                  <a:lnTo>
                    <a:pt x="2348" y="25"/>
                  </a:lnTo>
                  <a:lnTo>
                    <a:pt x="2417" y="20"/>
                  </a:lnTo>
                  <a:lnTo>
                    <a:pt x="2488" y="12"/>
                  </a:lnTo>
                  <a:lnTo>
                    <a:pt x="2555" y="4"/>
                  </a:lnTo>
                  <a:lnTo>
                    <a:pt x="2616" y="2"/>
                  </a:lnTo>
                  <a:lnTo>
                    <a:pt x="2674" y="0"/>
                  </a:lnTo>
                  <a:lnTo>
                    <a:pt x="2739" y="0"/>
                  </a:lnTo>
                  <a:lnTo>
                    <a:pt x="2801" y="2"/>
                  </a:lnTo>
                  <a:lnTo>
                    <a:pt x="2858" y="4"/>
                  </a:lnTo>
                  <a:lnTo>
                    <a:pt x="2908" y="10"/>
                  </a:lnTo>
                  <a:lnTo>
                    <a:pt x="3027" y="23"/>
                  </a:lnTo>
                  <a:lnTo>
                    <a:pt x="3085" y="33"/>
                  </a:lnTo>
                  <a:lnTo>
                    <a:pt x="3143" y="43"/>
                  </a:lnTo>
                  <a:lnTo>
                    <a:pt x="3267" y="73"/>
                  </a:lnTo>
                  <a:lnTo>
                    <a:pt x="3388" y="114"/>
                  </a:lnTo>
                  <a:lnTo>
                    <a:pt x="3509" y="164"/>
                  </a:lnTo>
                </a:path>
              </a:pathLst>
            </a:custGeom>
            <a:noFill/>
            <a:ln w="25560">
              <a:solidFill>
                <a:srgbClr val="6a83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36120" y="3451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05360" y="4699080"/>
              <a:ext cx="15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92840" y="4265640"/>
              <a:ext cx="138240" cy="2160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0" y="136"/>
                  </a:moveTo>
                  <a:cubicBezTo>
                    <a:pt x="6" y="136"/>
                    <a:pt x="13" y="136"/>
                    <a:pt x="19" y="136"/>
                  </a:cubicBezTo>
                  <a:lnTo>
                    <a:pt x="31" y="103"/>
                  </a:lnTo>
                  <a:lnTo>
                    <a:pt x="43" y="84"/>
                  </a:lnTo>
                  <a:lnTo>
                    <a:pt x="61" y="60"/>
                  </a:lnTo>
                  <a:lnTo>
                    <a:pt x="72" y="39"/>
                  </a:lnTo>
                  <a:lnTo>
                    <a:pt x="87" y="27"/>
                  </a:lnTo>
                  <a:lnTo>
                    <a:pt x="85" y="0"/>
                  </a:lnTo>
                  <a:lnTo>
                    <a:pt x="66" y="21"/>
                  </a:lnTo>
                  <a:lnTo>
                    <a:pt x="51" y="45"/>
                  </a:lnTo>
                  <a:lnTo>
                    <a:pt x="34" y="66"/>
                  </a:lnTo>
                  <a:lnTo>
                    <a:pt x="28" y="81"/>
                  </a:lnTo>
                  <a:cubicBezTo>
                    <a:pt x="20" y="92"/>
                    <a:pt x="24" y="88"/>
                    <a:pt x="19" y="93"/>
                  </a:cubicBezTo>
                  <a:lnTo>
                    <a:pt x="9" y="112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354245"/>
            </a:solidFill>
            <a:ln w="9360">
              <a:solidFill>
                <a:srgbClr val="3542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50080" y="4327560"/>
              <a:ext cx="75960" cy="154080"/>
            </a:xfrm>
            <a:custGeom>
              <a:avLst/>
              <a:gdLst/>
              <a:ahLst/>
              <a:rect l="l" t="t" r="r" b="b"/>
              <a:pathLst>
                <a:path w="48" h="97">
                  <a:moveTo>
                    <a:pt x="0" y="97"/>
                  </a:moveTo>
                  <a:cubicBezTo>
                    <a:pt x="8" y="96"/>
                    <a:pt x="4" y="96"/>
                    <a:pt x="13" y="96"/>
                  </a:cubicBezTo>
                  <a:lnTo>
                    <a:pt x="22" y="73"/>
                  </a:lnTo>
                  <a:lnTo>
                    <a:pt x="25" y="58"/>
                  </a:lnTo>
                  <a:lnTo>
                    <a:pt x="34" y="45"/>
                  </a:lnTo>
                  <a:lnTo>
                    <a:pt x="48" y="31"/>
                  </a:lnTo>
                  <a:lnTo>
                    <a:pt x="48" y="0"/>
                  </a:lnTo>
                  <a:lnTo>
                    <a:pt x="25" y="34"/>
                  </a:lnTo>
                  <a:lnTo>
                    <a:pt x="12" y="63"/>
                  </a:lnTo>
                  <a:lnTo>
                    <a:pt x="6" y="79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354245"/>
            </a:solidFill>
            <a:ln w="9360">
              <a:solidFill>
                <a:srgbClr val="3542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ample class: Van der Pol Oscillator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39640" y="1125360"/>
            <a:ext cx="8118720" cy="2012040"/>
            <a:chOff x="539640" y="1125360"/>
            <a:chExt cx="8118720" cy="2012040"/>
          </a:xfrm>
        </p:grpSpPr>
        <p:sp>
          <p:nvSpPr>
            <p:cNvPr id="294" name=""/>
            <p:cNvSpPr/>
            <p:nvPr/>
          </p:nvSpPr>
          <p:spPr>
            <a:xfrm>
              <a:off x="638280" y="1190520"/>
              <a:ext cx="8020080" cy="1825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1125360"/>
              <a:ext cx="8031240" cy="201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VanDerPol  "Van der Pol oscillator model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al x(start = 1)  "Descriptive string for x"; // x starts a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al y(start = 1)  "y coordinate";             // y starts a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arameter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Real lambda = 0.3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(x) = y;            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// This is the 1st diff equation //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(y) = -x + lambda*(1 - x*x)*y;  /* This is the 2nd diff equation 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VanDerPol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650880" y="3851280"/>
            <a:ext cx="4309920" cy="6271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1960" y="3770280"/>
            <a:ext cx="430056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mulate(VanDerPol,stopTime = 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otParametric(x,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Small OMNotebook Exercis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7840" y="1087560"/>
            <a:ext cx="788652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the HelloWorld model in DrModelica using OMNotebo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nd plot the example. Do a slight change in the model, re-simulate and re-p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3360" y="2840040"/>
            <a:ext cx="4848120" cy="1420920"/>
            <a:chOff x="603360" y="2840040"/>
            <a:chExt cx="4848120" cy="1420920"/>
          </a:xfrm>
        </p:grpSpPr>
        <p:sp>
          <p:nvSpPr>
            <p:cNvPr id="304" name=""/>
            <p:cNvSpPr/>
            <p:nvPr/>
          </p:nvSpPr>
          <p:spPr>
            <a:xfrm>
              <a:off x="696960" y="2928960"/>
              <a:ext cx="475452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3360" y="2840040"/>
              <a:ext cx="4757400" cy="13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HelloWorld "A simple equation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Real x(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start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=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(x)=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-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x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HelloWorld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948040" y="4371840"/>
            <a:ext cx="5992560" cy="677880"/>
            <a:chOff x="2948040" y="4371840"/>
            <a:chExt cx="5992560" cy="677880"/>
          </a:xfrm>
        </p:grpSpPr>
        <p:sp>
          <p:nvSpPr>
            <p:cNvPr id="307" name=""/>
            <p:cNvSpPr/>
            <p:nvPr/>
          </p:nvSpPr>
          <p:spPr>
            <a:xfrm>
              <a:off x="3036960" y="4460760"/>
              <a:ext cx="5903640" cy="588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48040" y="4371840"/>
              <a:ext cx="5903640" cy="58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imulate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HelloWorld,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stopTime = 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plot(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69800" y="5227560"/>
            <a:ext cx="83440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the VanDerPol model in DrModelica and try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ome change and re-sim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mall OMNotebook Exercises cont.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nd copy a cell (tree to the r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the horizontal cell cursor: first click between cells; then click once more on top of the horizont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e the cel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You can find most Users Guide examples in the UsersGuideExamples.onb in the testmodels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MShell and OMNotebook OpenModelica End-User Subsystems 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94096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Shell – interactive session handler for Modelica 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Notebook – interactive electronic notebook for Modelica teaching (with DrModelica), scripting, and docu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(OMC) – compiles and executes/simulates Modelic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tplot package (from Berkeley) make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2680" y="29052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Environment Architectur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9680" y="1571760"/>
          <a:ext cx="84074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571760"/>
                    <a:ext cx="8407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Interactive Session Handler – on dcmotor Example</a:t>
            </a:r>
            <a:br>
              <a:rPr sz="2800"/>
            </a:b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(Session handler called OMShell – OpenModelica Shell)</a:t>
            </a:r>
            <a:endParaRPr b="1" lang="en-US" sz="20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6320" y="1244520"/>
            <a:ext cx="5346360" cy="963720"/>
            <a:chOff x="76320" y="1244520"/>
            <a:chExt cx="5346360" cy="963720"/>
          </a:xfrm>
        </p:grpSpPr>
        <p:sp>
          <p:nvSpPr>
            <p:cNvPr id="98" name=""/>
            <p:cNvSpPr/>
            <p:nvPr/>
          </p:nvSpPr>
          <p:spPr>
            <a:xfrm>
              <a:off x="172800" y="1296360"/>
              <a:ext cx="5249880" cy="911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320" y="1244520"/>
              <a:ext cx="5249880" cy="91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60" y="1247400"/>
              <a:ext cx="5215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simulate(dcmotor,startTime=0.0,stopTime=10.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plot({load.w,load.phi}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102200" y="1600200"/>
            <a:ext cx="4990680" cy="3147120"/>
            <a:chOff x="4102200" y="1600200"/>
            <a:chExt cx="4990680" cy="3147120"/>
          </a:xfrm>
        </p:grpSpPr>
        <p:sp>
          <p:nvSpPr>
            <p:cNvPr id="102" name=""/>
            <p:cNvSpPr/>
            <p:nvPr/>
          </p:nvSpPr>
          <p:spPr>
            <a:xfrm>
              <a:off x="4192200" y="1769400"/>
              <a:ext cx="4900680" cy="2977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2200" y="1600200"/>
              <a:ext cx="4900680" cy="29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08680" y="1612440"/>
              <a:ext cx="4868640" cy="26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model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dcmo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Resistor r1(R=10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Inductor i1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EMF emf1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Mechanics.Rotational.Inertia load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Basic.Ground g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Modelica.Electrical.Analog.Sources.ConstantVoltage v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v.p,r1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v.n,g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r1.n,i1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i1.n,emf1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emf1.n,g.p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(emf1.flange_b,load.flange_a)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1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sv-SE" sz="1100" spc="-1" strike="noStrike">
                  <a:solidFill>
                    <a:srgbClr val="000000"/>
                  </a:solidFill>
                  <a:latin typeface="Courier New"/>
                </a:rPr>
                <a:t> dcmotor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840" y="3594240"/>
            <a:ext cx="406872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vent Handling by OpenModelica – BouncingBall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9680" y="1523880"/>
            <a:ext cx="3175200" cy="949680"/>
            <a:chOff x="139680" y="1523880"/>
            <a:chExt cx="3175200" cy="949680"/>
          </a:xfrm>
        </p:grpSpPr>
        <p:sp>
          <p:nvSpPr>
            <p:cNvPr id="108" name=""/>
            <p:cNvSpPr/>
            <p:nvPr/>
          </p:nvSpPr>
          <p:spPr>
            <a:xfrm>
              <a:off x="196920" y="1569600"/>
              <a:ext cx="3117960" cy="803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9680" y="1523880"/>
              <a:ext cx="3117960" cy="80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20" y="1527120"/>
              <a:ext cx="3097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simulate(BouncingBal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topTime=3.0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&gt;&gt;plot({h,flying})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3736800"/>
            <a:ext cx="4457880" cy="26766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543480" y="1143000"/>
            <a:ext cx="5523480" cy="3625200"/>
            <a:chOff x="3543480" y="1143000"/>
            <a:chExt cx="5523480" cy="3625200"/>
          </a:xfrm>
        </p:grpSpPr>
        <p:sp>
          <p:nvSpPr>
            <p:cNvPr id="113" name=""/>
            <p:cNvSpPr/>
            <p:nvPr/>
          </p:nvSpPr>
          <p:spPr>
            <a:xfrm>
              <a:off x="3642840" y="1338120"/>
              <a:ext cx="5424120" cy="3430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43480" y="1143000"/>
              <a:ext cx="5424120" cy="343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50680" y="1157040"/>
              <a:ext cx="538884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model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BouncingBa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paramet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Real e=0.7 "coefficient of restitution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paramet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Real g=9.81 "gravity acceleration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al h(start=1) "height of ball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al v "velocity of ball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Boolean flying(start=true) "true, if ball is flying"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Boolean impact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Real v_new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qu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impact=h &lt;= 0.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(v)=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flying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-g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der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(h)=v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w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{h &lt;= 0.0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and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v &lt;= 0.0,impact}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v_new=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edge(impact)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-e*pre(v)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flying=v_new &gt; 0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reinit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(v, v_new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when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 BouncingBall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Run Scripts in Open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cript command interprets a .mos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mos means MOdelica Scrip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unScript("sim_BouncingBall.mo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13280" y="4368960"/>
            <a:ext cx="4901760" cy="1253520"/>
            <a:chOff x="4013280" y="4368960"/>
            <a:chExt cx="4901760" cy="1253520"/>
          </a:xfrm>
        </p:grpSpPr>
        <p:sp>
          <p:nvSpPr>
            <p:cNvPr id="119" name=""/>
            <p:cNvSpPr/>
            <p:nvPr/>
          </p:nvSpPr>
          <p:spPr>
            <a:xfrm>
              <a:off x="4101480" y="4428360"/>
              <a:ext cx="4813560" cy="104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13280" y="4368960"/>
              <a:ext cx="4813560" cy="104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9400" y="4372200"/>
              <a:ext cx="478188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oadFile("BouncingBall.mo"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imulate(BouncingBall, stopTime=3.0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lot({h,flying})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921120" y="3618000"/>
            <a:ext cx="423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49560" y="3797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le  sim_BouncingBall.m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736800"/>
            <a:ext cx="35686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ome OMShell Exercise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OMShell (e.g. from the start men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xamples in the OpenModelicaUsers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evaluating a small expression, e.g. 2+3, push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hel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ommand completion, e.g. type loadM followed by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Modelica (i.e. loadModel(Modelic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ile menu-&gt;LoadModel and load the dcmotor (../test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im followed by tab; fill in dc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plot followed by tab; fill in some variable(s) to plot (look at the users gu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a small function and call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2680" y="226800"/>
            <a:ext cx="877572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enModelica OMNotebook Electronic Notebook with DrModelica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7180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for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electronic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Notebook Does not nee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86240" y="485640"/>
            <a:ext cx="47498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Interactive Contents in DrModelica Contains Examples and Exercises from Modelica Book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7200" y="1139760"/>
            <a:ext cx="5504040" cy="464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937120" y="1955880"/>
          <a:ext cx="2830680" cy="40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7120" y="1955880"/>
                    <a:ext cx="283068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934240" y="1230480"/>
            <a:ext cx="2301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600000"/>
                </a:solidFill>
                <a:latin typeface="Arial"/>
              </a:rPr>
              <a:t>Recent Book, 200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 </cp:lastModifiedBy>
  <dcterms:modified xsi:type="dcterms:W3CDTF">2006-06-04T12:47:40Z</dcterms:modified>
  <cp:revision>579</cp:revision>
  <dc:subject/>
  <dc:title>Slide 1</dc:title>
</cp:coreProperties>
</file>