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8.wmf" ContentType="image/x-wmf"/>
  <Override PartName="/ppt/media/image3.jpeg" ContentType="image/jpeg"/>
  <Override PartName="/ppt/media/image27.jpeg" ContentType="image/jpeg"/>
  <Override PartName="/ppt/media/image26.png" ContentType="image/png"/>
  <Override PartName="/ppt/media/image9.wmf" ContentType="image/x-wmf"/>
  <Override PartName="/ppt/media/image10.jpeg" ContentType="image/jpeg"/>
  <Override PartName="/ppt/media/image14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12.png" ContentType="image/png"/>
  <Override PartName="/ppt/media/image32.wmf" ContentType="image/x-wmf"/>
  <Override PartName="/ppt/media/image8.wmf" ContentType="image/x-wmf"/>
  <Override PartName="/ppt/media/image13.png" ContentType="image/png"/>
  <Override PartName="/ppt/media/image33.wmf" ContentType="image/x-wmf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7.jpeg" ContentType="image/jpeg"/>
  <Override PartName="/ppt/media/image1.wmf" ContentType="image/x-wmf"/>
  <Override PartName="/ppt/media/image24.wmf" ContentType="image/x-wmf"/>
  <Override PartName="/ppt/media/image15.jpeg" ContentType="image/jpe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54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6792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30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54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6792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404640"/>
            <a:ext cx="8775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54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792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54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792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2680" y="404640"/>
            <a:ext cx="8775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6a83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6a83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6a83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9412-B816-4C94-ACA9-B8F72920890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5753160" y="6410160"/>
            <a:ext cx="10461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9800" y="1418760"/>
            <a:ext cx="714708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OpenModelica Environment and Modelica Overview</a:t>
            </a:r>
            <a:br>
              <a:rPr sz="3600"/>
            </a:br>
            <a:endParaRPr b="1" lang="en-US" sz="36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5520" y="3586320"/>
            <a:ext cx="541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Peter Aronsso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 at INRIA, 2006 06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Brief Modelica History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odelica design group meeting in fall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group of people with expert knowledge in both language design and physic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and 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ca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released September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released March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 version, 2.2 released March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ca Association established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, non-profi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odelica Conference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2680" y="1125000"/>
            <a:ext cx="77979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ational Modelica conference October, 2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ational Modelica conference March 18-19, 200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ational Modelica conference November 5-6, 2003 in Linköping, 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ational Modelica conference March 6-7, 2005 in Hamburg,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ational Modelica conference September 4-5, 2006 in Vienna, A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39800" y="1365120"/>
            <a:ext cx="3751200" cy="4275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odelica Model Example – Industry Robot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8120" y="5996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14859" t="7303" r="62465" b="17601"/>
          <a:stretch/>
        </p:blipFill>
        <p:spPr>
          <a:xfrm>
            <a:off x="6084720" y="1036800"/>
            <a:ext cx="1925640" cy="43034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303200" y="1233360"/>
            <a:ext cx="5113080" cy="1019160"/>
            <a:chOff x="1303200" y="1233360"/>
            <a:chExt cx="5113080" cy="101916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rcRect l="17172" t="22154" r="24117" b="55573"/>
            <a:stretch/>
          </p:blipFill>
          <p:spPr>
            <a:xfrm>
              <a:off x="1303200" y="1233360"/>
              <a:ext cx="3983040" cy="101916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31" name=""/>
            <p:cNvSpPr/>
            <p:nvPr/>
          </p:nvSpPr>
          <p:spPr>
            <a:xfrm flipH="1">
              <a:off x="5287320" y="1713600"/>
              <a:ext cx="1128960" cy="53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5287320" y="1235160"/>
              <a:ext cx="1128960" cy="41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25720" y="1833480"/>
            <a:ext cx="2125440" cy="1567080"/>
            <a:chOff x="3825720" y="1833480"/>
            <a:chExt cx="2125440" cy="156708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rcRect l="21113" t="26032" r="43731" b="45812"/>
            <a:stretch/>
          </p:blipFill>
          <p:spPr>
            <a:xfrm>
              <a:off x="4157640" y="2431440"/>
              <a:ext cx="1793520" cy="9691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35" name=""/>
            <p:cNvSpPr/>
            <p:nvPr/>
          </p:nvSpPr>
          <p:spPr>
            <a:xfrm>
              <a:off x="3825720" y="2012760"/>
              <a:ext cx="331920" cy="13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24800" y="1833480"/>
              <a:ext cx="19263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830680" y="1766880"/>
            <a:ext cx="2523960" cy="4103640"/>
            <a:chOff x="2830680" y="1766880"/>
            <a:chExt cx="2523960" cy="4103640"/>
          </a:xfrm>
        </p:grpSpPr>
        <p:pic>
          <p:nvPicPr>
            <p:cNvPr id="138" name="" descr=""/>
            <p:cNvPicPr/>
            <p:nvPr/>
          </p:nvPicPr>
          <p:blipFill>
            <a:blip r:embed="rId5"/>
            <a:srcRect l="16422" t="7258" r="34347" b="29038"/>
            <a:stretch/>
          </p:blipFill>
          <p:spPr>
            <a:xfrm>
              <a:off x="2830680" y="3679200"/>
              <a:ext cx="2509920" cy="219132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39" name=""/>
            <p:cNvSpPr/>
            <p:nvPr/>
          </p:nvSpPr>
          <p:spPr>
            <a:xfrm flipH="1">
              <a:off x="2830680" y="1766880"/>
              <a:ext cx="597600" cy="19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93960" y="1766880"/>
              <a:ext cx="1660680" cy="19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71120" y="1766880"/>
            <a:ext cx="2922840" cy="2420640"/>
            <a:chOff x="771120" y="1766880"/>
            <a:chExt cx="2922840" cy="2420640"/>
          </a:xfrm>
        </p:grpSpPr>
        <p:pic>
          <p:nvPicPr>
            <p:cNvPr id="142" name="" descr=""/>
            <p:cNvPicPr/>
            <p:nvPr/>
          </p:nvPicPr>
          <p:blipFill>
            <a:blip r:embed="rId6"/>
            <a:srcRect l="7038" t="19774" r="35847" b="29038"/>
            <a:stretch/>
          </p:blipFill>
          <p:spPr>
            <a:xfrm>
              <a:off x="771480" y="2424240"/>
              <a:ext cx="2915280" cy="176328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43" name=""/>
            <p:cNvSpPr/>
            <p:nvPr/>
          </p:nvSpPr>
          <p:spPr>
            <a:xfrm flipH="1">
              <a:off x="771120" y="1766880"/>
              <a:ext cx="225828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5440" y="1766880"/>
              <a:ext cx="39852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303200" y="4522680"/>
            <a:ext cx="5843520" cy="1554120"/>
            <a:chOff x="1303200" y="4522680"/>
            <a:chExt cx="5843520" cy="1554120"/>
          </a:xfrm>
        </p:grpSpPr>
        <p:grpSp>
          <p:nvGrpSpPr>
            <p:cNvPr id="146" name=""/>
            <p:cNvGrpSpPr/>
            <p:nvPr/>
          </p:nvGrpSpPr>
          <p:grpSpPr>
            <a:xfrm>
              <a:off x="1303200" y="4701960"/>
              <a:ext cx="4409640" cy="1374840"/>
              <a:chOff x="1303200" y="4701960"/>
              <a:chExt cx="4409640" cy="1374840"/>
            </a:xfrm>
          </p:grpSpPr>
          <p:sp>
            <p:nvSpPr>
              <p:cNvPr id="147" name=""/>
              <p:cNvSpPr/>
              <p:nvPr/>
            </p:nvSpPr>
            <p:spPr>
              <a:xfrm>
                <a:off x="1303200" y="4701960"/>
                <a:ext cx="4409640" cy="13748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13360" y="4761720"/>
                <a:ext cx="4188960" cy="1255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13360" y="4821120"/>
                <a:ext cx="4188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Srel = n*transpose(n)+(identity(3)- n*transpose(n))*cos(q)- skew(n)*sin(q);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wrela = n*qd;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zrela = n*qdd;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Sb = Sa*transpose(Srel);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r0b = r0a;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vb = Srel*va;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wb = Srel*(wa + wrela);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b = Srel*aa;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zb = Srel*(za + zrela + cross(wa, wrela));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H="1">
              <a:off x="5713200" y="4701960"/>
              <a:ext cx="1433520" cy="13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713200" y="4522680"/>
              <a:ext cx="12132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2680" y="1634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odelica Model Example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TX Gas Turbine Power Cutoff Mechanism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6600" y="1282680"/>
            <a:ext cx="7905600" cy="4686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6019920"/>
            <a:ext cx="385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Courtesy of Siemens Industrial Turbomachinery 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84200" y="1193760"/>
          <a:ext cx="3430440" cy="49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1193760"/>
                    <a:ext cx="343044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95480" y="43488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Recent Book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22640" y="1401840"/>
            <a:ext cx="540072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s of Object Oriented Modeling and Simulation with Modelica 2.1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ey-IEEE Pres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40 page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k web page:</a:t>
            </a:r>
            <a:br>
              <a:rPr sz="2000"/>
            </a:br>
            <a:r>
              <a:rPr b="1" lang="en-US" sz="2300" spc="-1" strike="noStrike">
                <a:solidFill>
                  <a:srgbClr val="0000ff"/>
                </a:solidFill>
                <a:latin typeface="Courier New"/>
              </a:rPr>
              <a:t>www.mathcore.com/drmodel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8840" y="285444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0000"/>
                </a:solidFill>
                <a:latin typeface="Arial"/>
              </a:rPr>
              <a:t>The OpenModelica Environment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End-Users vs. Developer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40744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End-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ho use OpenModelica for modeling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ho develop/contribute to parts in the OpenModelica environment including the OpenModelica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End-User Subsystems 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94096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odelica End-User Subsystems – a pre-packaged kit containing tools needed for modeling, simulation,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odelica Compiler (OMC) – compiles and executes/simulates Modelic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Shell – interactive session handler for Modelica scri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Notebook – interactive electronic notebook for Modelica teaching (with DrModelica), scripting,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odelica MDT – Eclipse Plugin (Modelica Development Tooling), e.g. for library development (c.f. JDT – Java, CDT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 Model Editor from MathCore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nly binary, but free for university u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Development Toolkit (OMDev) 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– to Simplify Open Source Development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2680" y="1049400"/>
            <a:ext cx="849636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Dev is a pre-packaged pre-compiled kit containing all tools needed for OpenModelica development. Just unpack and start working on your platform. (Windows, (Linu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ica Compiler (MMC) – for developing O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odelica Compiler (OMC) – for brows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ipse plugin MDT – (Modelica Development Tooling), e.g. for compiler (OMC)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compiled Corba (MICO) for too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d Gnu compiler (Mingw version for Wind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cs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(web) Subversion for version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ine (web) Bugzilla for bug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regression testing using a test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on: release of interactive debug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2680" y="29052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Environment Architectur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09680" y="1571760"/>
          <a:ext cx="8407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571760"/>
                    <a:ext cx="8407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40744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comprehensive modeling and simulation environment for research, teaching, and industrial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, open-source for both academic and commercia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under Berkley New BSD open source lic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Modelica compiler (OMC) now translated into MetaMode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for open-source cooperation around OpenModelica, tools, and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Client-Server Architectur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60480" y="1201680"/>
          <a:ext cx="7118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201680"/>
                    <a:ext cx="7118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Released in OpenModelica 1.4.0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/interpreter – OM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session handler – OMSh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Notebook with DrModelica –  OMNoteb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Eclipse plugin M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 Editor – Beta versio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er – soon released, beta version being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cs mode –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Compiler/Interpreter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ersion (1.4.0) released May 15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mplemented in 100 000 lines of MetaMode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code generation, BLT-transformation, index reduction, connection to DASS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Modelica language including classes, functions, inheritance, modifications, impor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/Discrete ev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orba Client-Server API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6870960" cy="15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ext-based (string) communication in Modelica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supporting model structure query and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of the Corba API funct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3040" y="1125360"/>
          <a:ext cx="8509320" cy="17494560"/>
        </p:xfrm>
        <a:graphic>
          <a:graphicData uri="http://schemas.openxmlformats.org/drawingml/2006/table">
            <a:tbl>
              <a:tblPr/>
              <a:tblGrid>
                <a:gridCol w="3237120"/>
                <a:gridCol w="5272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r" pos="34005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Platform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nModelica GUI tools (OMShell, OMNotebook, ...) are developed on the Qt4 GUI library, portable between Windows, Linux,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ompilers (OMC, MMC) are portable between the thre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– currently main development and releas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–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(Berkeley) Unix – plan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Interactive Session Handler – on dcmotor Example</a:t>
            </a:r>
            <a:br>
              <a:rPr sz="2800"/>
            </a:b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(Session handler called OMShell – OpenModelica Shell)</a:t>
            </a:r>
            <a:endParaRPr b="1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6320" y="1244520"/>
            <a:ext cx="5346360" cy="963720"/>
            <a:chOff x="76320" y="1244520"/>
            <a:chExt cx="5346360" cy="963720"/>
          </a:xfrm>
        </p:grpSpPr>
        <p:sp>
          <p:nvSpPr>
            <p:cNvPr id="189" name=""/>
            <p:cNvSpPr/>
            <p:nvPr/>
          </p:nvSpPr>
          <p:spPr>
            <a:xfrm>
              <a:off x="172800" y="1296360"/>
              <a:ext cx="5249880" cy="91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320" y="1244520"/>
              <a:ext cx="5249880" cy="91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160" y="1247400"/>
              <a:ext cx="5215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gt;&gt;simulate(dcmotor,startTime=0.0,stopTime=10.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gt;&gt;plot({load.w,load.phi}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02200" y="1600200"/>
            <a:ext cx="4990680" cy="3147120"/>
            <a:chOff x="4102200" y="1600200"/>
            <a:chExt cx="4990680" cy="3147120"/>
          </a:xfrm>
        </p:grpSpPr>
        <p:sp>
          <p:nvSpPr>
            <p:cNvPr id="193" name=""/>
            <p:cNvSpPr/>
            <p:nvPr/>
          </p:nvSpPr>
          <p:spPr>
            <a:xfrm>
              <a:off x="4192200" y="1769400"/>
              <a:ext cx="4900680" cy="297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02200" y="1600200"/>
              <a:ext cx="4900680" cy="29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08680" y="1612440"/>
              <a:ext cx="4868640" cy="26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model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dcmo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Basic.Resistor r1(R=10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Basic.Inductor i1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Basic.EMF emf1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Mechanics.Rotational.Inertia load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Basic.Ground g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Sources.ConstantVoltage v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v.p,r1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v.n,g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r1.n,i1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i1.n,emf1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emf1.n,g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emf1.flange_b,load.flange_a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dcmotor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840" y="3594240"/>
            <a:ext cx="40687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vent Handling by OpenModelica – BouncingBall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9680" y="1523880"/>
            <a:ext cx="3175200" cy="949680"/>
            <a:chOff x="139680" y="1523880"/>
            <a:chExt cx="3175200" cy="949680"/>
          </a:xfrm>
        </p:grpSpPr>
        <p:sp>
          <p:nvSpPr>
            <p:cNvPr id="199" name=""/>
            <p:cNvSpPr/>
            <p:nvPr/>
          </p:nvSpPr>
          <p:spPr>
            <a:xfrm>
              <a:off x="196920" y="1569600"/>
              <a:ext cx="3117960" cy="803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9680" y="1523880"/>
              <a:ext cx="3117960" cy="80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720" y="1527120"/>
              <a:ext cx="3097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gt;&gt;simulate(BouncingBall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topTime=3.0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gt;&gt;plot({h,flying})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3736800"/>
            <a:ext cx="4457880" cy="26766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543480" y="1143000"/>
            <a:ext cx="5523480" cy="3625200"/>
            <a:chOff x="3543480" y="1143000"/>
            <a:chExt cx="5523480" cy="3625200"/>
          </a:xfrm>
        </p:grpSpPr>
        <p:sp>
          <p:nvSpPr>
            <p:cNvPr id="204" name=""/>
            <p:cNvSpPr/>
            <p:nvPr/>
          </p:nvSpPr>
          <p:spPr>
            <a:xfrm>
              <a:off x="3642840" y="1338120"/>
              <a:ext cx="5424120" cy="3430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43480" y="1143000"/>
              <a:ext cx="5424120" cy="343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50680" y="1157040"/>
              <a:ext cx="5388840" cy="33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model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Bouncing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parameter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Real e=0.7 "coefficient of restitution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parameter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Real g=9.81 "gravity acceleration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Real h(start=1) "height of ball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Real v "velocity of ball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Boolean flying(start=true) "true, if ball is flying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Boolean impac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Real v_new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qu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impact=h &lt;= 0.0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der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(v)=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flying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-g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0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der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(h)=v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when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{h &lt;= 0.0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and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v &lt;= 0.0,impact}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v_new=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edge(impact)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-e*pre(v)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0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flying=v_new &gt; 0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reinit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(v, v_new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when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BouncingBall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Run Scripts in OpenModelica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cript command interprets a .mo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mos means MOdelica Scrip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unScript("sim_BouncingBall.mos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013280" y="4368960"/>
            <a:ext cx="4901760" cy="1253520"/>
            <a:chOff x="4013280" y="4368960"/>
            <a:chExt cx="4901760" cy="1253520"/>
          </a:xfrm>
        </p:grpSpPr>
        <p:sp>
          <p:nvSpPr>
            <p:cNvPr id="210" name=""/>
            <p:cNvSpPr/>
            <p:nvPr/>
          </p:nvSpPr>
          <p:spPr>
            <a:xfrm>
              <a:off x="4101480" y="4428360"/>
              <a:ext cx="4813560" cy="104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13280" y="4368960"/>
              <a:ext cx="4813560" cy="10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19400" y="4372200"/>
              <a:ext cx="478188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File("BouncingBall.mo"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mulate(BouncingBall, stopTime=3.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lot({h,flying})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921120" y="3618000"/>
            <a:ext cx="423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49560" y="3797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 sim_BouncingBall.m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3736800"/>
            <a:ext cx="35686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MDT – Eclipse Plugin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ing of Modelica/MetaModelica packages, class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building of execu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high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ompletion, Code query support for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Ind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8840" y="285444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0000"/>
                </a:solidFill>
                <a:latin typeface="Arial"/>
              </a:rPr>
              <a:t>Background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00000"/>
                </a:solidFill>
                <a:latin typeface="Arial"/>
              </a:rPr>
              <a:t>Modelica –  </a:t>
            </a:r>
            <a:br>
              <a:rPr sz="4000"/>
            </a:br>
            <a:r>
              <a:rPr b="1" lang="en-US" sz="4000" spc="-1" strike="noStrike">
                <a:solidFill>
                  <a:srgbClr val="600000"/>
                </a:solidFill>
                <a:latin typeface="Arial"/>
              </a:rPr>
              <a:t>the Next Generation</a:t>
            </a:r>
            <a:br>
              <a:rPr sz="4000"/>
            </a:br>
            <a:r>
              <a:rPr b="1" lang="en-US" sz="4000" spc="-1" strike="noStrike">
                <a:solidFill>
                  <a:srgbClr val="600000"/>
                </a:solidFill>
                <a:latin typeface="Arial"/>
              </a:rPr>
              <a:t>Modeling Language</a:t>
            </a:r>
            <a:endParaRPr b="1" lang="en-US" sz="40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2680" y="23976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clipse MDT in Action – Browsing and Building OMC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88840" y="1084320"/>
            <a:ext cx="74296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2680" y="2016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New Graphic Model Editor</a:t>
            </a:r>
            <a:br>
              <a:rPr sz="2800"/>
            </a:br>
            <a:r>
              <a:rPr b="1" lang="en-US" sz="2400" spc="-1" strike="noStrike">
                <a:solidFill>
                  <a:srgbClr val="600000"/>
                </a:solidFill>
                <a:latin typeface="Arial"/>
              </a:rPr>
              <a:t>(From MathCore; runs on Windows, Linux)</a:t>
            </a:r>
            <a:endParaRPr b="1" lang="en-US" sz="2400" spc="-1" strike="noStrike">
              <a:solidFill>
                <a:srgbClr val="6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2280" y="3013200"/>
            <a:ext cx="4089600" cy="2931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655720" y="1162080"/>
            <a:ext cx="5934240" cy="4254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246384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s together with OpenMode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for university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2680" y="226800"/>
            <a:ext cx="8775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Simple Electronic Notebook with DrModelica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233712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for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Notebook Does not nee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51040" y="698400"/>
            <a:ext cx="62326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Interactive Contents in DrModelica Contains Examples and Exercises from Modelica Book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87200" y="1139760"/>
            <a:ext cx="5504040" cy="464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5937120" y="1955880"/>
          <a:ext cx="2830680" cy="404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7120" y="1955880"/>
                    <a:ext cx="283068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5934240" y="1230480"/>
            <a:ext cx="2301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600000"/>
                </a:solidFill>
                <a:latin typeface="Arial"/>
              </a:rPr>
              <a:t>Recent Book, 2004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2680" y="3794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Algorithmic Code Debugger (prel.)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50880" y="1228680"/>
            <a:ext cx="3498840" cy="4819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72000" y="1843200"/>
            <a:ext cx="34988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Modelica Compiler (MMC)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extended subset of Mode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 syntax and base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 matching (named/posi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equations (local within ex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tree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s and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bage collection of heap-alloca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s (with local update as in standard Mode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parameters to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uiltin exception (failure) handl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19112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ww.ida.liu.se/projects/OpenModelica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ownload OpenMode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ww.mathcore.com/DrModelica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ca book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www.modelica.org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ca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s: {petfr,adrpo,petar}@ida.liu.se, OpenModelicaInterest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7772400" cy="28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odelica version 1.3.1 released Nov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OpenModelica version 1.4.0 released May 15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Modelica in MetaMode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bugfi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Modelica MDT Eclipse plu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 model editor (available for beta te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on and feedback welco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47040" y="3668760"/>
            <a:ext cx="2463480" cy="202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0" r="9233" b="945"/>
          <a:stretch/>
        </p:blipFill>
        <p:spPr>
          <a:xfrm>
            <a:off x="3174840" y="1239840"/>
            <a:ext cx="1665360" cy="2774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2680" y="1890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amples of Complex Industrial Applicat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2400" y="1141200"/>
            <a:ext cx="4349880" cy="29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o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c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one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vy Vehi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86720" y="1290600"/>
            <a:ext cx="2195280" cy="22827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846600" y="4818240"/>
            <a:ext cx="2761920" cy="1328400"/>
            <a:chOff x="3846600" y="4818240"/>
            <a:chExt cx="2761920" cy="132840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4013280" y="4818240"/>
              <a:ext cx="2595240" cy="13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846600" y="4818240"/>
              <a:ext cx="169560" cy="1328400"/>
            </a:xfrm>
            <a:prstGeom prst="rect">
              <a:avLst/>
            </a:prstGeom>
            <a:solidFill>
              <a:srgbClr val="dbffb7"/>
            </a:solidFill>
            <a:ln w="9360">
              <a:solidFill>
                <a:srgbClr val="db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124600" y="1449360"/>
            <a:ext cx="871200" cy="1247760"/>
            <a:chOff x="5124600" y="1449360"/>
            <a:chExt cx="871200" cy="12477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124600" y="1656000"/>
              <a:ext cx="622080" cy="104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6"/>
            <a:stretch/>
          </p:blipFill>
          <p:spPr>
            <a:xfrm>
              <a:off x="5382720" y="1449360"/>
              <a:ext cx="613080" cy="104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42800" y="4824360"/>
            <a:ext cx="3092400" cy="139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4484520" y="3054240"/>
            <a:ext cx="219096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2680" y="1760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tored Scientific and Engineering Knowledg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6160" y="2136600"/>
            <a:ext cx="2397240" cy="3865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15198" t="66867" r="6144" b="23018"/>
          <a:stretch/>
        </p:blipFill>
        <p:spPr>
          <a:xfrm>
            <a:off x="2608200" y="4227480"/>
            <a:ext cx="4762440" cy="100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12760" y="1212840"/>
            <a:ext cx="851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knowledge is stored in books and human minds which computers canno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89280" y="2843280"/>
            <a:ext cx="4991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Monotype Corsiva"/>
              </a:rPr>
              <a:t>“</a:t>
            </a:r>
            <a:r>
              <a:rPr b="0" lang="en-US" sz="2800" spc="-1" strike="noStrike">
                <a:solidFill>
                  <a:srgbClr val="600000"/>
                </a:solidFill>
                <a:latin typeface="Monotype Corsiva"/>
              </a:rPr>
              <a:t>The change of motion is proportional to the motive force impressed</a:t>
            </a: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New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he Form – Equat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14200" y="1125000"/>
            <a:ext cx="833616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were used in the third millennium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sign was introduced by Robert Recorde in 1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3840" y="2060640"/>
            <a:ext cx="5759280" cy="65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8360" y="2820960"/>
            <a:ext cx="922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ton still wrote text (Principia, vol. 1, 16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change of motion is proportional to the motive force impressed 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8080" y="4029120"/>
            <a:ext cx="893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SL (1967) introduced a special form of “equation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riable =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 = INTEG(F)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0000"/>
                </a:solidFill>
                <a:latin typeface="Arial"/>
              </a:rPr>
              <a:t>Programming languages usually do not allow equa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3040" y="1119240"/>
            <a:ext cx="94186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ons and mathematical functions allow acausal model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 specification, increased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omain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electrical, mechanical, thermodynamic, hydrauli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logical, control, event, real-time, etc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thing is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ly typed object-oriented language with a general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, Java &amp; MATLAB-lik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compon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system architecture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, non-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comparable to C; advanced equation compi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300 000 equations, ~150 000 lines on standard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22392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odelica – The Next Generation Modeling Languag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odelica Language Propertie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91425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-ba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continuous and discret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 modeling of real-time applications, according to synchronous data flow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algorithms without global side-effec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t local data updates allo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pired by Abadi/Card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thing i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al, Integer, models, functions, packages, parameterized classes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3320" y="22392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bject Oriented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athematical Modeling with Modelica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9409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i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larative 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mathematical model is empha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is primarily used a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ing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iewed as dynamic object creation and send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expressed 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larative 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usal classes suppor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tter reuse of modeling and design 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traditional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 </cp:lastModifiedBy>
  <dcterms:modified xsi:type="dcterms:W3CDTF">2006-06-04T12:43:07Z</dcterms:modified>
  <cp:revision>576</cp:revision>
  <dc:subject/>
  <dc:title>Slide 1</dc:title>
</cp:coreProperties>
</file>